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wmf" ContentType="image/x-wmf"/>
  <Override PartName="/ppt/media/image9.wmf" ContentType="image/x-wmf"/>
  <Override PartName="/ppt/media/image1.png" ContentType="image/png"/>
  <Override PartName="/ppt/media/image2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CC2B-427F-4446-858D-972409638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34AB-F2CE-44AC-875C-2E55E6E3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A2D-45B2-4D0B-99CA-FCC9C42D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572-A2C2-4718-914D-3385B9E1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15AE-47F3-4458-B338-BECCD061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B555-B015-4A7C-B7E5-8C0C9815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4A71A-404F-4C92-83A7-F70DAE70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6C66-553F-4092-9A81-DC2C1BBD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A1C7-8AC7-4905-A468-DEBBE906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DDA7-1B94-40A8-BFD2-6F5A771C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94F27-D323-4C03-8016-A7584893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33A6-9820-4A47-B5EC-1BDC3CE2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4D54-63B7-465B-9BA7-68DFCE4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29CF-83D7-48C7-9C07-915A3E6F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EC15-4AF7-41BC-8AD7-09948F7DF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2E87-3965-44A2-8FF8-AF9B1CBD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203-E768-4659-B5DE-8DABB7BE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E36-5322-458D-9512-449A299F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447-A771-4529-BF35-770B8A2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6148-A097-4E11-8B3D-0393B163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53DF-9CB0-4F2F-BC89-C19507F1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E1D7-81AB-46C5-9BD0-53D3DF5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6D6B-DEF0-441A-8D45-F33E0FE6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414-A28C-4CFA-9713-F31638E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4D31-4D81-4998-87A4-8E54F61272D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709A-3D21-42F9-940A-9E674689EA6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3lian.com/gif/DetailView.htm?Detail=sucai/img1/593/12.gif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057400"/>
            <a:ext cx="8020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人在职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Engineer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到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anager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的成长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素兰玉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523880" y="54100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523880" y="5410080"/>
          <a:ext cx="30492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4100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Manag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286000"/>
            <a:ext cx="78483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责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负责公司信息技术项目的管理工作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负责部门工作的计划和分工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负责项目团队内部、团队与项目干系人之间的沟通、协调工作，保证项目在可行、有序的环境下进行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控制和指导项目日常工作，管理项目变更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掌握各项目小组的工作情况，帮助提高项目组的工作效率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对项目的进展和绩效实施有效的管理和控制，并向公司领导及时汇报项目进展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获取外部资源，需要时与不同职能部门就项目工作进行协调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负责部门团队建设和管理，组织与项目有关的各类会议及内部培训工作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负责部门日常管理工作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与财务部配合，做好本部门的收入、成本、费用的预算工作；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、 配合公司相关部门，完成公司领导下达的其它任务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295280"/>
            <a:ext cx="8077320" cy="76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Manag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5280" y="2209320"/>
            <a:ext cx="36576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项目经理任职条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管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管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非黑非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对事又对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200400"/>
            <a:ext cx="2666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概念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灵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关注结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发散思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3657600"/>
            <a:ext cx="199872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0769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ˎ̥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ˎ̥"/>
              </a:rPr>
              <a:t>有些技术人员就是为研发而生，而有些技术人员天生就是管理者，只不过是从技术的门进去而已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--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王志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3083040" cy="304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209680" y="1752480"/>
            <a:ext cx="4419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管  理  能  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5257800" y="2666880"/>
            <a:ext cx="3348000" cy="3581280"/>
            <a:chOff x="5257800" y="2666880"/>
            <a:chExt cx="3348000" cy="3581280"/>
          </a:xfrm>
        </p:grpSpPr>
        <p:grpSp>
          <p:nvGrpSpPr>
            <p:cNvPr id="178" name=""/>
            <p:cNvGrpSpPr/>
            <p:nvPr/>
          </p:nvGrpSpPr>
          <p:grpSpPr>
            <a:xfrm>
              <a:off x="5257800" y="2666880"/>
              <a:ext cx="3348000" cy="3581280"/>
              <a:chOff x="5257800" y="2666880"/>
              <a:chExt cx="3348000" cy="3581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257800" y="2677680"/>
                <a:ext cx="3348000" cy="3570480"/>
                <a:chOff x="5257800" y="2677680"/>
                <a:chExt cx="3348000" cy="357048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6473520" y="5567040"/>
                  <a:ext cx="1852920" cy="192240"/>
                  <a:chOff x="6473520" y="5567040"/>
                  <a:chExt cx="1852920" cy="19224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7100640" y="5589360"/>
                    <a:ext cx="1090800" cy="169920"/>
                    <a:chOff x="7100640" y="5589360"/>
                    <a:chExt cx="1090800" cy="16992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>
                      <a:off x="8126280" y="5589360"/>
                      <a:ext cx="65160" cy="14616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>
                      <a:off x="7581600" y="5648040"/>
                      <a:ext cx="16200" cy="968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H="1">
                      <a:off x="7100640" y="5648040"/>
                      <a:ext cx="14400" cy="1112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85" name=""/>
                  <p:cNvSpPr/>
                  <p:nvPr/>
                </p:nvSpPr>
                <p:spPr>
                  <a:xfrm flipH="1">
                    <a:off x="6473160" y="5567040"/>
                    <a:ext cx="18529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7" h="102">
                        <a:moveTo>
                          <a:pt x="0" y="0"/>
                        </a:moveTo>
                        <a:lnTo>
                          <a:pt x="219" y="72"/>
                        </a:lnTo>
                        <a:lnTo>
                          <a:pt x="287" y="86"/>
                        </a:lnTo>
                        <a:lnTo>
                          <a:pt x="354" y="92"/>
                        </a:lnTo>
                        <a:lnTo>
                          <a:pt x="433" y="99"/>
                        </a:lnTo>
                        <a:lnTo>
                          <a:pt x="500" y="102"/>
                        </a:lnTo>
                        <a:lnTo>
                          <a:pt x="625" y="102"/>
                        </a:lnTo>
                        <a:lnTo>
                          <a:pt x="779" y="96"/>
                        </a:lnTo>
                        <a:lnTo>
                          <a:pt x="916" y="90"/>
                        </a:lnTo>
                        <a:lnTo>
                          <a:pt x="1167" y="72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" name=""/>
                <p:cNvSpPr/>
                <p:nvPr/>
              </p:nvSpPr>
              <p:spPr>
                <a:xfrm flipH="1">
                  <a:off x="7975080" y="5592600"/>
                  <a:ext cx="351000" cy="191880"/>
                </a:xfrm>
                <a:custGeom>
                  <a:avLst/>
                  <a:gdLst/>
                  <a:ahLst/>
                  <a:rect l="l" t="t" r="r" b="b"/>
                  <a:pathLst>
                    <a:path w="221" h="244">
                      <a:moveTo>
                        <a:pt x="182" y="244"/>
                      </a:moveTo>
                      <a:lnTo>
                        <a:pt x="162" y="219"/>
                      </a:lnTo>
                      <a:lnTo>
                        <a:pt x="136" y="201"/>
                      </a:lnTo>
                      <a:lnTo>
                        <a:pt x="111" y="189"/>
                      </a:lnTo>
                      <a:lnTo>
                        <a:pt x="85" y="186"/>
                      </a:lnTo>
                      <a:lnTo>
                        <a:pt x="52" y="183"/>
                      </a:lnTo>
                      <a:lnTo>
                        <a:pt x="0" y="0"/>
                      </a:lnTo>
                      <a:lnTo>
                        <a:pt x="60" y="163"/>
                      </a:lnTo>
                      <a:lnTo>
                        <a:pt x="90" y="157"/>
                      </a:lnTo>
                      <a:lnTo>
                        <a:pt x="124" y="159"/>
                      </a:lnTo>
                      <a:lnTo>
                        <a:pt x="166" y="165"/>
                      </a:lnTo>
                      <a:lnTo>
                        <a:pt x="221" y="186"/>
                      </a:lnTo>
                      <a:lnTo>
                        <a:pt x="182" y="244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>
                  <a:off x="5900400" y="5679720"/>
                  <a:ext cx="2313000" cy="493920"/>
                </a:xfrm>
                <a:custGeom>
                  <a:avLst/>
                  <a:gdLst/>
                  <a:ahLst/>
                  <a:rect l="l" t="t" r="r" b="b"/>
                  <a:pathLst>
                    <a:path w="1457" h="623">
                      <a:moveTo>
                        <a:pt x="174" y="70"/>
                      </a:moveTo>
                      <a:lnTo>
                        <a:pt x="153" y="66"/>
                      </a:lnTo>
                      <a:lnTo>
                        <a:pt x="133" y="64"/>
                      </a:lnTo>
                      <a:lnTo>
                        <a:pt x="109" y="55"/>
                      </a:lnTo>
                      <a:lnTo>
                        <a:pt x="88" y="49"/>
                      </a:lnTo>
                      <a:lnTo>
                        <a:pt x="74" y="48"/>
                      </a:lnTo>
                      <a:lnTo>
                        <a:pt x="58" y="46"/>
                      </a:lnTo>
                      <a:lnTo>
                        <a:pt x="44" y="48"/>
                      </a:lnTo>
                      <a:lnTo>
                        <a:pt x="31" y="49"/>
                      </a:lnTo>
                      <a:lnTo>
                        <a:pt x="17" y="54"/>
                      </a:lnTo>
                      <a:lnTo>
                        <a:pt x="0" y="58"/>
                      </a:lnTo>
                      <a:lnTo>
                        <a:pt x="28" y="60"/>
                      </a:lnTo>
                      <a:lnTo>
                        <a:pt x="53" y="66"/>
                      </a:lnTo>
                      <a:lnTo>
                        <a:pt x="75" y="77"/>
                      </a:lnTo>
                      <a:lnTo>
                        <a:pt x="104" y="89"/>
                      </a:lnTo>
                      <a:lnTo>
                        <a:pt x="112" y="96"/>
                      </a:lnTo>
                      <a:lnTo>
                        <a:pt x="113" y="127"/>
                      </a:lnTo>
                      <a:lnTo>
                        <a:pt x="116" y="153"/>
                      </a:lnTo>
                      <a:lnTo>
                        <a:pt x="121" y="169"/>
                      </a:lnTo>
                      <a:lnTo>
                        <a:pt x="127" y="191"/>
                      </a:lnTo>
                      <a:lnTo>
                        <a:pt x="136" y="213"/>
                      </a:lnTo>
                      <a:lnTo>
                        <a:pt x="145" y="238"/>
                      </a:lnTo>
                      <a:lnTo>
                        <a:pt x="158" y="264"/>
                      </a:lnTo>
                      <a:lnTo>
                        <a:pt x="192" y="324"/>
                      </a:lnTo>
                      <a:lnTo>
                        <a:pt x="213" y="356"/>
                      </a:lnTo>
                      <a:lnTo>
                        <a:pt x="232" y="391"/>
                      </a:lnTo>
                      <a:lnTo>
                        <a:pt x="246" y="416"/>
                      </a:lnTo>
                      <a:lnTo>
                        <a:pt x="270" y="454"/>
                      </a:lnTo>
                      <a:lnTo>
                        <a:pt x="285" y="477"/>
                      </a:lnTo>
                      <a:lnTo>
                        <a:pt x="299" y="496"/>
                      </a:lnTo>
                      <a:lnTo>
                        <a:pt x="312" y="512"/>
                      </a:lnTo>
                      <a:lnTo>
                        <a:pt x="329" y="525"/>
                      </a:lnTo>
                      <a:lnTo>
                        <a:pt x="348" y="542"/>
                      </a:lnTo>
                      <a:lnTo>
                        <a:pt x="370" y="556"/>
                      </a:lnTo>
                      <a:lnTo>
                        <a:pt x="397" y="568"/>
                      </a:lnTo>
                      <a:lnTo>
                        <a:pt x="442" y="586"/>
                      </a:lnTo>
                      <a:lnTo>
                        <a:pt x="483" y="603"/>
                      </a:lnTo>
                      <a:lnTo>
                        <a:pt x="503" y="609"/>
                      </a:lnTo>
                      <a:lnTo>
                        <a:pt x="529" y="614"/>
                      </a:lnTo>
                      <a:lnTo>
                        <a:pt x="556" y="620"/>
                      </a:lnTo>
                      <a:lnTo>
                        <a:pt x="589" y="623"/>
                      </a:lnTo>
                      <a:lnTo>
                        <a:pt x="618" y="623"/>
                      </a:lnTo>
                      <a:lnTo>
                        <a:pt x="699" y="614"/>
                      </a:lnTo>
                      <a:lnTo>
                        <a:pt x="758" y="598"/>
                      </a:lnTo>
                      <a:lnTo>
                        <a:pt x="819" y="583"/>
                      </a:lnTo>
                      <a:lnTo>
                        <a:pt x="879" y="568"/>
                      </a:lnTo>
                      <a:lnTo>
                        <a:pt x="930" y="551"/>
                      </a:lnTo>
                      <a:lnTo>
                        <a:pt x="991" y="539"/>
                      </a:lnTo>
                      <a:lnTo>
                        <a:pt x="1042" y="531"/>
                      </a:lnTo>
                      <a:lnTo>
                        <a:pt x="1084" y="525"/>
                      </a:lnTo>
                      <a:lnTo>
                        <a:pt x="1118" y="521"/>
                      </a:lnTo>
                      <a:lnTo>
                        <a:pt x="1160" y="515"/>
                      </a:lnTo>
                      <a:lnTo>
                        <a:pt x="1211" y="515"/>
                      </a:lnTo>
                      <a:lnTo>
                        <a:pt x="1245" y="519"/>
                      </a:lnTo>
                      <a:lnTo>
                        <a:pt x="1247" y="502"/>
                      </a:lnTo>
                      <a:lnTo>
                        <a:pt x="1252" y="484"/>
                      </a:lnTo>
                      <a:lnTo>
                        <a:pt x="1258" y="461"/>
                      </a:lnTo>
                      <a:lnTo>
                        <a:pt x="1270" y="439"/>
                      </a:lnTo>
                      <a:lnTo>
                        <a:pt x="1280" y="419"/>
                      </a:lnTo>
                      <a:lnTo>
                        <a:pt x="1293" y="394"/>
                      </a:lnTo>
                      <a:lnTo>
                        <a:pt x="1308" y="367"/>
                      </a:lnTo>
                      <a:lnTo>
                        <a:pt x="1321" y="349"/>
                      </a:lnTo>
                      <a:lnTo>
                        <a:pt x="1340" y="324"/>
                      </a:lnTo>
                      <a:lnTo>
                        <a:pt x="1356" y="303"/>
                      </a:lnTo>
                      <a:lnTo>
                        <a:pt x="1375" y="277"/>
                      </a:lnTo>
                      <a:lnTo>
                        <a:pt x="1391" y="255"/>
                      </a:lnTo>
                      <a:lnTo>
                        <a:pt x="1407" y="230"/>
                      </a:lnTo>
                      <a:lnTo>
                        <a:pt x="1425" y="200"/>
                      </a:lnTo>
                      <a:lnTo>
                        <a:pt x="1437" y="171"/>
                      </a:lnTo>
                      <a:lnTo>
                        <a:pt x="1444" y="153"/>
                      </a:lnTo>
                      <a:lnTo>
                        <a:pt x="1449" y="127"/>
                      </a:lnTo>
                      <a:lnTo>
                        <a:pt x="1454" y="107"/>
                      </a:lnTo>
                      <a:lnTo>
                        <a:pt x="1457" y="93"/>
                      </a:lnTo>
                      <a:lnTo>
                        <a:pt x="1442" y="0"/>
                      </a:lnTo>
                      <a:lnTo>
                        <a:pt x="1377" y="5"/>
                      </a:lnTo>
                      <a:lnTo>
                        <a:pt x="1341" y="7"/>
                      </a:lnTo>
                      <a:lnTo>
                        <a:pt x="1306" y="8"/>
                      </a:lnTo>
                      <a:lnTo>
                        <a:pt x="1264" y="13"/>
                      </a:lnTo>
                      <a:lnTo>
                        <a:pt x="1226" y="14"/>
                      </a:lnTo>
                      <a:lnTo>
                        <a:pt x="1187" y="17"/>
                      </a:lnTo>
                      <a:lnTo>
                        <a:pt x="1001" y="28"/>
                      </a:lnTo>
                      <a:lnTo>
                        <a:pt x="978" y="31"/>
                      </a:lnTo>
                      <a:lnTo>
                        <a:pt x="978" y="7"/>
                      </a:lnTo>
                      <a:lnTo>
                        <a:pt x="790" y="13"/>
                      </a:lnTo>
                      <a:lnTo>
                        <a:pt x="795" y="43"/>
                      </a:lnTo>
                      <a:lnTo>
                        <a:pt x="702" y="46"/>
                      </a:lnTo>
                      <a:lnTo>
                        <a:pt x="650" y="49"/>
                      </a:lnTo>
                      <a:lnTo>
                        <a:pt x="599" y="49"/>
                      </a:lnTo>
                      <a:lnTo>
                        <a:pt x="531" y="52"/>
                      </a:lnTo>
                      <a:lnTo>
                        <a:pt x="468" y="54"/>
                      </a:lnTo>
                      <a:lnTo>
                        <a:pt x="431" y="54"/>
                      </a:lnTo>
                      <a:lnTo>
                        <a:pt x="398" y="54"/>
                      </a:lnTo>
                      <a:lnTo>
                        <a:pt x="375" y="55"/>
                      </a:lnTo>
                      <a:lnTo>
                        <a:pt x="361" y="58"/>
                      </a:lnTo>
                      <a:lnTo>
                        <a:pt x="340" y="60"/>
                      </a:lnTo>
                      <a:lnTo>
                        <a:pt x="321" y="60"/>
                      </a:lnTo>
                      <a:lnTo>
                        <a:pt x="296" y="61"/>
                      </a:lnTo>
                      <a:lnTo>
                        <a:pt x="276" y="64"/>
                      </a:lnTo>
                      <a:lnTo>
                        <a:pt x="241" y="66"/>
                      </a:lnTo>
                      <a:lnTo>
                        <a:pt x="174" y="70"/>
                      </a:lnTo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8" name=""/>
                <p:cNvGrpSpPr/>
                <p:nvPr/>
              </p:nvGrpSpPr>
              <p:grpSpPr>
                <a:xfrm>
                  <a:off x="6661080" y="5476680"/>
                  <a:ext cx="1144440" cy="484200"/>
                  <a:chOff x="6661080" y="5476680"/>
                  <a:chExt cx="1144440" cy="484200"/>
                </a:xfrm>
              </p:grpSpPr>
              <p:sp>
                <p:nvSpPr>
                  <p:cNvPr id="189" name=""/>
                  <p:cNvSpPr/>
                  <p:nvPr/>
                </p:nvSpPr>
                <p:spPr>
                  <a:xfrm flipH="1">
                    <a:off x="7030800" y="5711400"/>
                    <a:ext cx="77472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199">
                        <a:moveTo>
                          <a:pt x="0" y="123"/>
                        </a:moveTo>
                        <a:lnTo>
                          <a:pt x="175" y="3"/>
                        </a:lnTo>
                        <a:lnTo>
                          <a:pt x="488" y="0"/>
                        </a:lnTo>
                        <a:lnTo>
                          <a:pt x="213" y="163"/>
                        </a:lnTo>
                        <a:lnTo>
                          <a:pt x="213" y="199"/>
                        </a:lnTo>
                        <a:lnTo>
                          <a:pt x="157" y="199"/>
                        </a:lnTo>
                        <a:lnTo>
                          <a:pt x="118" y="190"/>
                        </a:lnTo>
                        <a:lnTo>
                          <a:pt x="89" y="183"/>
                        </a:lnTo>
                        <a:lnTo>
                          <a:pt x="67" y="172"/>
                        </a:lnTo>
                        <a:lnTo>
                          <a:pt x="39" y="158"/>
                        </a:lnTo>
                        <a:lnTo>
                          <a:pt x="22" y="143"/>
                        </a:lnTo>
                        <a:lnTo>
                          <a:pt x="0" y="123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7270560" y="5476680"/>
                    <a:ext cx="16056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01">
                        <a:moveTo>
                          <a:pt x="0" y="24"/>
                        </a:moveTo>
                        <a:lnTo>
                          <a:pt x="68" y="401"/>
                        </a:lnTo>
                        <a:lnTo>
                          <a:pt x="101" y="395"/>
                        </a:lnTo>
                        <a:lnTo>
                          <a:pt x="25" y="0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603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>
                    <a:off x="6660720" y="5681520"/>
                    <a:ext cx="811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511" h="210">
                        <a:moveTo>
                          <a:pt x="320" y="9"/>
                        </a:moveTo>
                        <a:lnTo>
                          <a:pt x="0" y="202"/>
                        </a:lnTo>
                        <a:lnTo>
                          <a:pt x="50" y="208"/>
                        </a:lnTo>
                        <a:lnTo>
                          <a:pt x="96" y="210"/>
                        </a:lnTo>
                        <a:lnTo>
                          <a:pt x="135" y="210"/>
                        </a:lnTo>
                        <a:lnTo>
                          <a:pt x="173" y="208"/>
                        </a:lnTo>
                        <a:lnTo>
                          <a:pt x="207" y="202"/>
                        </a:lnTo>
                        <a:lnTo>
                          <a:pt x="246" y="193"/>
                        </a:lnTo>
                        <a:lnTo>
                          <a:pt x="277" y="184"/>
                        </a:lnTo>
                        <a:lnTo>
                          <a:pt x="300" y="173"/>
                        </a:lnTo>
                        <a:lnTo>
                          <a:pt x="328" y="160"/>
                        </a:lnTo>
                        <a:lnTo>
                          <a:pt x="498" y="12"/>
                        </a:lnTo>
                        <a:lnTo>
                          <a:pt x="511" y="0"/>
                        </a:lnTo>
                        <a:lnTo>
                          <a:pt x="320" y="9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7038720" y="5832360"/>
                    <a:ext cx="744840" cy="128520"/>
                    <a:chOff x="7038720" y="5832360"/>
                    <a:chExt cx="744840" cy="128520"/>
                  </a:xfrm>
                </p:grpSpPr>
                <p:grpSp>
                  <p:nvGrpSpPr>
                    <p:cNvPr id="193" name=""/>
                    <p:cNvGrpSpPr/>
                    <p:nvPr/>
                  </p:nvGrpSpPr>
                  <p:grpSpPr>
                    <a:xfrm>
                      <a:off x="7515000" y="5832360"/>
                      <a:ext cx="268560" cy="104760"/>
                      <a:chOff x="7515000" y="5832360"/>
                      <a:chExt cx="268560" cy="104760"/>
                    </a:xfrm>
                  </p:grpSpPr>
                  <p:sp>
                    <p:nvSpPr>
                      <p:cNvPr id="194" name=""/>
                      <p:cNvSpPr/>
                      <p:nvPr/>
                    </p:nvSpPr>
                    <p:spPr>
                      <a:xfrm flipH="1">
                        <a:off x="7700760" y="5832360"/>
                        <a:ext cx="8280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88">
                            <a:moveTo>
                              <a:pt x="0" y="0"/>
                            </a:moveTo>
                            <a:lnTo>
                              <a:pt x="7" y="11"/>
                            </a:lnTo>
                            <a:lnTo>
                              <a:pt x="14" y="20"/>
                            </a:lnTo>
                            <a:lnTo>
                              <a:pt x="23" y="24"/>
                            </a:lnTo>
                            <a:lnTo>
                              <a:pt x="33" y="31"/>
                            </a:lnTo>
                            <a:lnTo>
                              <a:pt x="42" y="37"/>
                            </a:lnTo>
                            <a:lnTo>
                              <a:pt x="52" y="43"/>
                            </a:lnTo>
                            <a:lnTo>
                              <a:pt x="52" y="88"/>
                            </a:lnTo>
                            <a:lnTo>
                              <a:pt x="39" y="82"/>
                            </a:lnTo>
                            <a:lnTo>
                              <a:pt x="30" y="76"/>
                            </a:lnTo>
                            <a:lnTo>
                              <a:pt x="19" y="67"/>
                            </a:lnTo>
                            <a:lnTo>
                              <a:pt x="8" y="58"/>
                            </a:lnTo>
                            <a:lnTo>
                              <a:pt x="0" y="4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5" name=""/>
                      <p:cNvSpPr/>
                      <p:nvPr/>
                    </p:nvSpPr>
                    <p:spPr>
                      <a:xfrm flipH="1">
                        <a:off x="7602480" y="5870160"/>
                        <a:ext cx="84240" cy="54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69">
                            <a:moveTo>
                              <a:pt x="0" y="0"/>
                            </a:moveTo>
                            <a:lnTo>
                              <a:pt x="0" y="49"/>
                            </a:lnTo>
                            <a:lnTo>
                              <a:pt x="14" y="55"/>
                            </a:lnTo>
                            <a:lnTo>
                              <a:pt x="25" y="61"/>
                            </a:lnTo>
                            <a:lnTo>
                              <a:pt x="36" y="66"/>
                            </a:lnTo>
                            <a:lnTo>
                              <a:pt x="46" y="69"/>
                            </a:lnTo>
                            <a:lnTo>
                              <a:pt x="53" y="69"/>
                            </a:lnTo>
                            <a:lnTo>
                              <a:pt x="53" y="17"/>
                            </a:lnTo>
                            <a:lnTo>
                              <a:pt x="41" y="16"/>
                            </a:lnTo>
                            <a:lnTo>
                              <a:pt x="25" y="11"/>
                            </a:lnTo>
                            <a:lnTo>
                              <a:pt x="13" y="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6" name=""/>
                      <p:cNvSpPr/>
                      <p:nvPr/>
                    </p:nvSpPr>
                    <p:spPr>
                      <a:xfrm flipH="1">
                        <a:off x="7514640" y="5884560"/>
                        <a:ext cx="66600" cy="52560"/>
                      </a:xfrm>
                      <a:prstGeom prst="ellipse">
                        <a:avLst/>
                      </a:prstGeom>
                      <a:solidFill>
                        <a:srgbClr val="60606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7" name=""/>
                    <p:cNvSpPr/>
                    <p:nvPr/>
                  </p:nvSpPr>
                  <p:spPr>
                    <a:xfrm flipH="1">
                      <a:off x="7248240" y="5878080"/>
                      <a:ext cx="20664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103">
                          <a:moveTo>
                            <a:pt x="0" y="0"/>
                          </a:moveTo>
                          <a:lnTo>
                            <a:pt x="23" y="1"/>
                          </a:lnTo>
                          <a:lnTo>
                            <a:pt x="41" y="5"/>
                          </a:lnTo>
                          <a:lnTo>
                            <a:pt x="63" y="5"/>
                          </a:lnTo>
                          <a:lnTo>
                            <a:pt x="84" y="5"/>
                          </a:lnTo>
                          <a:lnTo>
                            <a:pt x="104" y="5"/>
                          </a:lnTo>
                          <a:lnTo>
                            <a:pt x="123" y="1"/>
                          </a:lnTo>
                          <a:lnTo>
                            <a:pt x="125" y="53"/>
                          </a:lnTo>
                          <a:lnTo>
                            <a:pt x="130" y="102"/>
                          </a:lnTo>
                          <a:lnTo>
                            <a:pt x="110" y="102"/>
                          </a:lnTo>
                          <a:lnTo>
                            <a:pt x="91" y="103"/>
                          </a:lnTo>
                          <a:lnTo>
                            <a:pt x="72" y="103"/>
                          </a:lnTo>
                          <a:lnTo>
                            <a:pt x="49" y="102"/>
                          </a:lnTo>
                          <a:lnTo>
                            <a:pt x="22" y="99"/>
                          </a:lnTo>
                          <a:lnTo>
                            <a:pt x="2" y="96"/>
                          </a:lnTo>
                          <a:lnTo>
                            <a:pt x="1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7038720" y="5865480"/>
                      <a:ext cx="19872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5" h="119">
                          <a:moveTo>
                            <a:pt x="0" y="17"/>
                          </a:moveTo>
                          <a:lnTo>
                            <a:pt x="8" y="119"/>
                          </a:lnTo>
                          <a:lnTo>
                            <a:pt x="27" y="116"/>
                          </a:lnTo>
                          <a:lnTo>
                            <a:pt x="52" y="114"/>
                          </a:lnTo>
                          <a:lnTo>
                            <a:pt x="72" y="110"/>
                          </a:lnTo>
                          <a:lnTo>
                            <a:pt x="100" y="107"/>
                          </a:lnTo>
                          <a:lnTo>
                            <a:pt x="125" y="101"/>
                          </a:lnTo>
                          <a:lnTo>
                            <a:pt x="117" y="0"/>
                          </a:lnTo>
                          <a:lnTo>
                            <a:pt x="84" y="6"/>
                          </a:lnTo>
                          <a:lnTo>
                            <a:pt x="55" y="11"/>
                          </a:lnTo>
                          <a:lnTo>
                            <a:pt x="27" y="15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" name=""/>
                <p:cNvSpPr/>
                <p:nvPr/>
              </p:nvSpPr>
              <p:spPr>
                <a:xfrm flipH="1">
                  <a:off x="5570280" y="6032160"/>
                  <a:ext cx="779760" cy="93600"/>
                </a:xfrm>
                <a:custGeom>
                  <a:avLst/>
                  <a:gdLst/>
                  <a:ahLst/>
                  <a:rect l="l" t="t" r="r" b="b"/>
                  <a:pathLst>
                    <a:path w="491" h="117">
                      <a:moveTo>
                        <a:pt x="0" y="59"/>
                      </a:moveTo>
                      <a:lnTo>
                        <a:pt x="34" y="45"/>
                      </a:lnTo>
                      <a:lnTo>
                        <a:pt x="43" y="30"/>
                      </a:lnTo>
                      <a:lnTo>
                        <a:pt x="56" y="26"/>
                      </a:lnTo>
                      <a:lnTo>
                        <a:pt x="67" y="22"/>
                      </a:lnTo>
                      <a:lnTo>
                        <a:pt x="80" y="18"/>
                      </a:lnTo>
                      <a:lnTo>
                        <a:pt x="93" y="18"/>
                      </a:lnTo>
                      <a:lnTo>
                        <a:pt x="110" y="18"/>
                      </a:lnTo>
                      <a:lnTo>
                        <a:pt x="123" y="12"/>
                      </a:lnTo>
                      <a:lnTo>
                        <a:pt x="135" y="10"/>
                      </a:lnTo>
                      <a:lnTo>
                        <a:pt x="155" y="12"/>
                      </a:lnTo>
                      <a:lnTo>
                        <a:pt x="168" y="4"/>
                      </a:lnTo>
                      <a:lnTo>
                        <a:pt x="181" y="0"/>
                      </a:lnTo>
                      <a:lnTo>
                        <a:pt x="192" y="0"/>
                      </a:lnTo>
                      <a:lnTo>
                        <a:pt x="205" y="7"/>
                      </a:lnTo>
                      <a:lnTo>
                        <a:pt x="217" y="18"/>
                      </a:lnTo>
                      <a:lnTo>
                        <a:pt x="233" y="26"/>
                      </a:lnTo>
                      <a:lnTo>
                        <a:pt x="256" y="30"/>
                      </a:lnTo>
                      <a:lnTo>
                        <a:pt x="268" y="24"/>
                      </a:lnTo>
                      <a:lnTo>
                        <a:pt x="283" y="26"/>
                      </a:lnTo>
                      <a:lnTo>
                        <a:pt x="293" y="30"/>
                      </a:lnTo>
                      <a:lnTo>
                        <a:pt x="309" y="45"/>
                      </a:lnTo>
                      <a:lnTo>
                        <a:pt x="322" y="64"/>
                      </a:lnTo>
                      <a:lnTo>
                        <a:pt x="342" y="74"/>
                      </a:lnTo>
                      <a:lnTo>
                        <a:pt x="372" y="70"/>
                      </a:lnTo>
                      <a:lnTo>
                        <a:pt x="387" y="82"/>
                      </a:lnTo>
                      <a:lnTo>
                        <a:pt x="400" y="88"/>
                      </a:lnTo>
                      <a:lnTo>
                        <a:pt x="418" y="91"/>
                      </a:lnTo>
                      <a:lnTo>
                        <a:pt x="491" y="111"/>
                      </a:lnTo>
                      <a:lnTo>
                        <a:pt x="411" y="103"/>
                      </a:lnTo>
                      <a:lnTo>
                        <a:pt x="397" y="109"/>
                      </a:lnTo>
                      <a:lnTo>
                        <a:pt x="384" y="117"/>
                      </a:lnTo>
                      <a:lnTo>
                        <a:pt x="374" y="115"/>
                      </a:lnTo>
                      <a:lnTo>
                        <a:pt x="362" y="111"/>
                      </a:lnTo>
                      <a:lnTo>
                        <a:pt x="348" y="100"/>
                      </a:lnTo>
                      <a:lnTo>
                        <a:pt x="326" y="97"/>
                      </a:lnTo>
                      <a:lnTo>
                        <a:pt x="306" y="86"/>
                      </a:lnTo>
                      <a:lnTo>
                        <a:pt x="293" y="88"/>
                      </a:lnTo>
                      <a:lnTo>
                        <a:pt x="279" y="91"/>
                      </a:lnTo>
                      <a:lnTo>
                        <a:pt x="246" y="82"/>
                      </a:lnTo>
                      <a:lnTo>
                        <a:pt x="230" y="77"/>
                      </a:lnTo>
                      <a:lnTo>
                        <a:pt x="208" y="64"/>
                      </a:lnTo>
                      <a:lnTo>
                        <a:pt x="187" y="64"/>
                      </a:lnTo>
                      <a:lnTo>
                        <a:pt x="162" y="64"/>
                      </a:lnTo>
                      <a:lnTo>
                        <a:pt x="144" y="65"/>
                      </a:lnTo>
                      <a:lnTo>
                        <a:pt x="127" y="62"/>
                      </a:lnTo>
                      <a:lnTo>
                        <a:pt x="110" y="51"/>
                      </a:lnTo>
                      <a:lnTo>
                        <a:pt x="93" y="59"/>
                      </a:lnTo>
                      <a:lnTo>
                        <a:pt x="78" y="47"/>
                      </a:lnTo>
                      <a:lnTo>
                        <a:pt x="65" y="51"/>
                      </a:lnTo>
                      <a:lnTo>
                        <a:pt x="47" y="53"/>
                      </a:lnTo>
                      <a:lnTo>
                        <a:pt x="28" y="54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solidFill>
                  <a:srgbClr val="0000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6346800" y="5532120"/>
                  <a:ext cx="601560" cy="380880"/>
                  <a:chOff x="6346800" y="5532120"/>
                  <a:chExt cx="601560" cy="38088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 flipH="1">
                    <a:off x="6346800" y="5617800"/>
                    <a:ext cx="317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341">
                        <a:moveTo>
                          <a:pt x="164" y="0"/>
                        </a:moveTo>
                        <a:lnTo>
                          <a:pt x="154" y="6"/>
                        </a:lnTo>
                        <a:lnTo>
                          <a:pt x="150" y="9"/>
                        </a:lnTo>
                        <a:lnTo>
                          <a:pt x="147" y="20"/>
                        </a:lnTo>
                        <a:lnTo>
                          <a:pt x="143" y="41"/>
                        </a:lnTo>
                        <a:lnTo>
                          <a:pt x="141" y="44"/>
                        </a:lnTo>
                        <a:lnTo>
                          <a:pt x="145" y="49"/>
                        </a:lnTo>
                        <a:lnTo>
                          <a:pt x="147" y="66"/>
                        </a:lnTo>
                        <a:lnTo>
                          <a:pt x="157" y="67"/>
                        </a:lnTo>
                        <a:lnTo>
                          <a:pt x="160" y="78"/>
                        </a:lnTo>
                        <a:lnTo>
                          <a:pt x="152" y="79"/>
                        </a:lnTo>
                        <a:lnTo>
                          <a:pt x="133" y="101"/>
                        </a:lnTo>
                        <a:lnTo>
                          <a:pt x="110" y="113"/>
                        </a:lnTo>
                        <a:lnTo>
                          <a:pt x="94" y="108"/>
                        </a:lnTo>
                        <a:lnTo>
                          <a:pt x="85" y="101"/>
                        </a:lnTo>
                        <a:lnTo>
                          <a:pt x="81" y="92"/>
                        </a:lnTo>
                        <a:lnTo>
                          <a:pt x="73" y="90"/>
                        </a:lnTo>
                        <a:lnTo>
                          <a:pt x="65" y="99"/>
                        </a:lnTo>
                        <a:lnTo>
                          <a:pt x="65" y="111"/>
                        </a:lnTo>
                        <a:lnTo>
                          <a:pt x="65" y="124"/>
                        </a:lnTo>
                        <a:lnTo>
                          <a:pt x="77" y="127"/>
                        </a:lnTo>
                        <a:lnTo>
                          <a:pt x="90" y="127"/>
                        </a:lnTo>
                        <a:lnTo>
                          <a:pt x="119" y="142"/>
                        </a:lnTo>
                        <a:lnTo>
                          <a:pt x="147" y="133"/>
                        </a:lnTo>
                        <a:lnTo>
                          <a:pt x="145" y="166"/>
                        </a:lnTo>
                        <a:lnTo>
                          <a:pt x="135" y="201"/>
                        </a:lnTo>
                        <a:lnTo>
                          <a:pt x="91" y="230"/>
                        </a:lnTo>
                        <a:lnTo>
                          <a:pt x="79" y="238"/>
                        </a:lnTo>
                        <a:lnTo>
                          <a:pt x="75" y="251"/>
                        </a:lnTo>
                        <a:lnTo>
                          <a:pt x="61" y="277"/>
                        </a:lnTo>
                        <a:lnTo>
                          <a:pt x="45" y="302"/>
                        </a:lnTo>
                        <a:lnTo>
                          <a:pt x="31" y="309"/>
                        </a:lnTo>
                        <a:lnTo>
                          <a:pt x="13" y="300"/>
                        </a:lnTo>
                        <a:lnTo>
                          <a:pt x="5" y="297"/>
                        </a:lnTo>
                        <a:lnTo>
                          <a:pt x="0" y="306"/>
                        </a:lnTo>
                        <a:lnTo>
                          <a:pt x="19" y="327"/>
                        </a:lnTo>
                        <a:lnTo>
                          <a:pt x="32" y="341"/>
                        </a:lnTo>
                        <a:lnTo>
                          <a:pt x="57" y="321"/>
                        </a:lnTo>
                        <a:lnTo>
                          <a:pt x="86" y="291"/>
                        </a:lnTo>
                        <a:lnTo>
                          <a:pt x="98" y="273"/>
                        </a:lnTo>
                        <a:lnTo>
                          <a:pt x="128" y="256"/>
                        </a:lnTo>
                        <a:lnTo>
                          <a:pt x="168" y="227"/>
                        </a:lnTo>
                        <a:lnTo>
                          <a:pt x="186" y="198"/>
                        </a:lnTo>
                        <a:lnTo>
                          <a:pt x="194" y="171"/>
                        </a:lnTo>
                        <a:lnTo>
                          <a:pt x="200" y="102"/>
                        </a:lnTo>
                        <a:lnTo>
                          <a:pt x="191" y="81"/>
                        </a:lnTo>
                        <a:lnTo>
                          <a:pt x="182" y="73"/>
                        </a:lnTo>
                        <a:lnTo>
                          <a:pt x="180" y="61"/>
                        </a:lnTo>
                        <a:lnTo>
                          <a:pt x="184" y="49"/>
                        </a:lnTo>
                        <a:lnTo>
                          <a:pt x="186" y="35"/>
                        </a:lnTo>
                        <a:lnTo>
                          <a:pt x="184" y="16"/>
                        </a:lnTo>
                        <a:lnTo>
                          <a:pt x="176" y="6"/>
                        </a:lnTo>
                        <a:lnTo>
                          <a:pt x="164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H="1">
                    <a:off x="6374880" y="5671800"/>
                    <a:ext cx="213120" cy="156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8075" y="21251"/>
                        </a:moveTo>
                        <a:arcTo wR="10800" hR="10800" stAng="6276884" swAng="1138343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8075" y="21251"/>
                        </a:moveTo>
                        <a:arcTo wR="10800" hR="10800" stAng="6276884" swAng="11383436"/>
                      </a:path>
                    </a:pathLst>
                  </a:custGeom>
                  <a:noFill/>
                  <a:ln w="1440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flipH="1">
                    <a:off x="6568920" y="5532120"/>
                    <a:ext cx="379440" cy="298440"/>
                  </a:xfrm>
                  <a:custGeom>
                    <a:avLst/>
                    <a:gdLst/>
                    <a:ahLst/>
                    <a:rect l="l" t="t" r="r" b="b"/>
                    <a:pathLst>
                      <a:path w="239" h="374">
                        <a:moveTo>
                          <a:pt x="66" y="0"/>
                        </a:moveTo>
                        <a:lnTo>
                          <a:pt x="59" y="3"/>
                        </a:lnTo>
                        <a:lnTo>
                          <a:pt x="54" y="12"/>
                        </a:lnTo>
                        <a:lnTo>
                          <a:pt x="53" y="26"/>
                        </a:lnTo>
                        <a:lnTo>
                          <a:pt x="53" y="41"/>
                        </a:lnTo>
                        <a:lnTo>
                          <a:pt x="58" y="59"/>
                        </a:lnTo>
                        <a:lnTo>
                          <a:pt x="40" y="91"/>
                        </a:lnTo>
                        <a:lnTo>
                          <a:pt x="37" y="99"/>
                        </a:lnTo>
                        <a:lnTo>
                          <a:pt x="37" y="131"/>
                        </a:lnTo>
                        <a:lnTo>
                          <a:pt x="36" y="173"/>
                        </a:lnTo>
                        <a:lnTo>
                          <a:pt x="27" y="227"/>
                        </a:lnTo>
                        <a:lnTo>
                          <a:pt x="0" y="245"/>
                        </a:lnTo>
                        <a:lnTo>
                          <a:pt x="8" y="255"/>
                        </a:lnTo>
                        <a:lnTo>
                          <a:pt x="19" y="248"/>
                        </a:lnTo>
                        <a:lnTo>
                          <a:pt x="32" y="243"/>
                        </a:lnTo>
                        <a:lnTo>
                          <a:pt x="40" y="251"/>
                        </a:lnTo>
                        <a:lnTo>
                          <a:pt x="40" y="239"/>
                        </a:lnTo>
                        <a:lnTo>
                          <a:pt x="59" y="167"/>
                        </a:lnTo>
                        <a:lnTo>
                          <a:pt x="60" y="135"/>
                        </a:lnTo>
                        <a:lnTo>
                          <a:pt x="78" y="172"/>
                        </a:lnTo>
                        <a:lnTo>
                          <a:pt x="86" y="188"/>
                        </a:lnTo>
                        <a:lnTo>
                          <a:pt x="109" y="217"/>
                        </a:lnTo>
                        <a:lnTo>
                          <a:pt x="123" y="231"/>
                        </a:lnTo>
                        <a:lnTo>
                          <a:pt x="135" y="260"/>
                        </a:lnTo>
                        <a:lnTo>
                          <a:pt x="151" y="319"/>
                        </a:lnTo>
                        <a:lnTo>
                          <a:pt x="156" y="336"/>
                        </a:lnTo>
                        <a:lnTo>
                          <a:pt x="160" y="365"/>
                        </a:lnTo>
                        <a:lnTo>
                          <a:pt x="170" y="374"/>
                        </a:lnTo>
                        <a:lnTo>
                          <a:pt x="178" y="374"/>
                        </a:lnTo>
                        <a:lnTo>
                          <a:pt x="185" y="368"/>
                        </a:lnTo>
                        <a:lnTo>
                          <a:pt x="186" y="353"/>
                        </a:lnTo>
                        <a:lnTo>
                          <a:pt x="180" y="338"/>
                        </a:lnTo>
                        <a:lnTo>
                          <a:pt x="174" y="319"/>
                        </a:lnTo>
                        <a:lnTo>
                          <a:pt x="172" y="297"/>
                        </a:lnTo>
                        <a:lnTo>
                          <a:pt x="147" y="205"/>
                        </a:lnTo>
                        <a:lnTo>
                          <a:pt x="156" y="188"/>
                        </a:lnTo>
                        <a:lnTo>
                          <a:pt x="180" y="123"/>
                        </a:lnTo>
                        <a:lnTo>
                          <a:pt x="179" y="135"/>
                        </a:lnTo>
                        <a:lnTo>
                          <a:pt x="188" y="211"/>
                        </a:lnTo>
                        <a:lnTo>
                          <a:pt x="212" y="213"/>
                        </a:lnTo>
                        <a:lnTo>
                          <a:pt x="239" y="207"/>
                        </a:lnTo>
                        <a:lnTo>
                          <a:pt x="238" y="196"/>
                        </a:lnTo>
                        <a:lnTo>
                          <a:pt x="208" y="182"/>
                        </a:lnTo>
                        <a:lnTo>
                          <a:pt x="198" y="84"/>
                        </a:lnTo>
                        <a:lnTo>
                          <a:pt x="194" y="79"/>
                        </a:lnTo>
                        <a:lnTo>
                          <a:pt x="188" y="73"/>
                        </a:lnTo>
                        <a:lnTo>
                          <a:pt x="178" y="74"/>
                        </a:lnTo>
                        <a:lnTo>
                          <a:pt x="141" y="132"/>
                        </a:lnTo>
                        <a:lnTo>
                          <a:pt x="128" y="114"/>
                        </a:lnTo>
                        <a:lnTo>
                          <a:pt x="124" y="106"/>
                        </a:lnTo>
                        <a:lnTo>
                          <a:pt x="123" y="82"/>
                        </a:lnTo>
                        <a:lnTo>
                          <a:pt x="144" y="88"/>
                        </a:lnTo>
                        <a:lnTo>
                          <a:pt x="151" y="88"/>
                        </a:lnTo>
                        <a:lnTo>
                          <a:pt x="172" y="77"/>
                        </a:lnTo>
                        <a:lnTo>
                          <a:pt x="184" y="71"/>
                        </a:lnTo>
                        <a:lnTo>
                          <a:pt x="210" y="82"/>
                        </a:lnTo>
                        <a:lnTo>
                          <a:pt x="219" y="77"/>
                        </a:lnTo>
                        <a:lnTo>
                          <a:pt x="202" y="61"/>
                        </a:lnTo>
                        <a:lnTo>
                          <a:pt x="186" y="55"/>
                        </a:lnTo>
                        <a:lnTo>
                          <a:pt x="177" y="53"/>
                        </a:lnTo>
                        <a:lnTo>
                          <a:pt x="135" y="56"/>
                        </a:lnTo>
                        <a:lnTo>
                          <a:pt x="107" y="44"/>
                        </a:lnTo>
                        <a:lnTo>
                          <a:pt x="87" y="49"/>
                        </a:lnTo>
                        <a:lnTo>
                          <a:pt x="90" y="23"/>
                        </a:lnTo>
                        <a:lnTo>
                          <a:pt x="89" y="12"/>
                        </a:lnTo>
                        <a:lnTo>
                          <a:pt x="83" y="3"/>
                        </a:lnTo>
                        <a:lnTo>
                          <a:pt x="77" y="0"/>
                        </a:lnTo>
                        <a:lnTo>
                          <a:pt x="66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 flipH="1">
                    <a:off x="6675480" y="5730480"/>
                    <a:ext cx="25704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230">
                        <a:moveTo>
                          <a:pt x="95" y="37"/>
                        </a:moveTo>
                        <a:lnTo>
                          <a:pt x="92" y="17"/>
                        </a:lnTo>
                        <a:lnTo>
                          <a:pt x="84" y="3"/>
                        </a:lnTo>
                        <a:lnTo>
                          <a:pt x="79" y="0"/>
                        </a:lnTo>
                        <a:lnTo>
                          <a:pt x="72" y="0"/>
                        </a:lnTo>
                        <a:lnTo>
                          <a:pt x="63" y="3"/>
                        </a:lnTo>
                        <a:lnTo>
                          <a:pt x="59" y="13"/>
                        </a:lnTo>
                        <a:lnTo>
                          <a:pt x="56" y="23"/>
                        </a:lnTo>
                        <a:lnTo>
                          <a:pt x="55" y="37"/>
                        </a:lnTo>
                        <a:lnTo>
                          <a:pt x="58" y="48"/>
                        </a:lnTo>
                        <a:lnTo>
                          <a:pt x="62" y="54"/>
                        </a:lnTo>
                        <a:lnTo>
                          <a:pt x="49" y="61"/>
                        </a:lnTo>
                        <a:lnTo>
                          <a:pt x="35" y="76"/>
                        </a:lnTo>
                        <a:lnTo>
                          <a:pt x="26" y="107"/>
                        </a:lnTo>
                        <a:lnTo>
                          <a:pt x="15" y="131"/>
                        </a:lnTo>
                        <a:lnTo>
                          <a:pt x="9" y="146"/>
                        </a:lnTo>
                        <a:lnTo>
                          <a:pt x="0" y="162"/>
                        </a:lnTo>
                        <a:lnTo>
                          <a:pt x="5" y="171"/>
                        </a:lnTo>
                        <a:lnTo>
                          <a:pt x="2" y="187"/>
                        </a:lnTo>
                        <a:lnTo>
                          <a:pt x="5" y="210"/>
                        </a:lnTo>
                        <a:lnTo>
                          <a:pt x="15" y="224"/>
                        </a:lnTo>
                        <a:lnTo>
                          <a:pt x="31" y="230"/>
                        </a:lnTo>
                        <a:lnTo>
                          <a:pt x="50" y="230"/>
                        </a:lnTo>
                        <a:lnTo>
                          <a:pt x="70" y="222"/>
                        </a:lnTo>
                        <a:lnTo>
                          <a:pt x="95" y="207"/>
                        </a:lnTo>
                        <a:lnTo>
                          <a:pt x="114" y="201"/>
                        </a:lnTo>
                        <a:lnTo>
                          <a:pt x="134" y="216"/>
                        </a:lnTo>
                        <a:lnTo>
                          <a:pt x="162" y="201"/>
                        </a:lnTo>
                        <a:lnTo>
                          <a:pt x="130" y="171"/>
                        </a:lnTo>
                        <a:lnTo>
                          <a:pt x="117" y="166"/>
                        </a:lnTo>
                        <a:lnTo>
                          <a:pt x="89" y="171"/>
                        </a:lnTo>
                        <a:lnTo>
                          <a:pt x="67" y="172"/>
                        </a:lnTo>
                        <a:lnTo>
                          <a:pt x="73" y="156"/>
                        </a:lnTo>
                        <a:lnTo>
                          <a:pt x="80" y="168"/>
                        </a:lnTo>
                        <a:lnTo>
                          <a:pt x="86" y="168"/>
                        </a:lnTo>
                        <a:lnTo>
                          <a:pt x="91" y="165"/>
                        </a:lnTo>
                        <a:lnTo>
                          <a:pt x="95" y="152"/>
                        </a:lnTo>
                        <a:lnTo>
                          <a:pt x="96" y="117"/>
                        </a:lnTo>
                        <a:lnTo>
                          <a:pt x="96" y="87"/>
                        </a:lnTo>
                        <a:lnTo>
                          <a:pt x="91" y="67"/>
                        </a:lnTo>
                        <a:lnTo>
                          <a:pt x="89" y="60"/>
                        </a:lnTo>
                        <a:lnTo>
                          <a:pt x="95" y="37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 flipH="1">
                  <a:off x="5922720" y="5584680"/>
                  <a:ext cx="922320" cy="341280"/>
                </a:xfrm>
                <a:custGeom>
                  <a:avLst/>
                  <a:gdLst/>
                  <a:ahLst/>
                  <a:rect l="l" t="t" r="r" b="b"/>
                  <a:pathLst>
                    <a:path w="581" h="431">
                      <a:moveTo>
                        <a:pt x="461" y="128"/>
                      </a:moveTo>
                      <a:lnTo>
                        <a:pt x="461" y="66"/>
                      </a:lnTo>
                      <a:lnTo>
                        <a:pt x="463" y="47"/>
                      </a:lnTo>
                      <a:lnTo>
                        <a:pt x="468" y="35"/>
                      </a:lnTo>
                      <a:lnTo>
                        <a:pt x="476" y="25"/>
                      </a:lnTo>
                      <a:lnTo>
                        <a:pt x="484" y="17"/>
                      </a:lnTo>
                      <a:lnTo>
                        <a:pt x="494" y="12"/>
                      </a:lnTo>
                      <a:lnTo>
                        <a:pt x="504" y="8"/>
                      </a:lnTo>
                      <a:lnTo>
                        <a:pt x="581" y="0"/>
                      </a:lnTo>
                      <a:lnTo>
                        <a:pt x="427" y="95"/>
                      </a:lnTo>
                      <a:lnTo>
                        <a:pt x="375" y="127"/>
                      </a:lnTo>
                      <a:lnTo>
                        <a:pt x="312" y="160"/>
                      </a:lnTo>
                      <a:lnTo>
                        <a:pt x="277" y="175"/>
                      </a:lnTo>
                      <a:lnTo>
                        <a:pt x="240" y="193"/>
                      </a:lnTo>
                      <a:lnTo>
                        <a:pt x="192" y="216"/>
                      </a:lnTo>
                      <a:lnTo>
                        <a:pt x="80" y="257"/>
                      </a:lnTo>
                      <a:lnTo>
                        <a:pt x="46" y="270"/>
                      </a:lnTo>
                      <a:lnTo>
                        <a:pt x="35" y="279"/>
                      </a:lnTo>
                      <a:lnTo>
                        <a:pt x="23" y="291"/>
                      </a:lnTo>
                      <a:lnTo>
                        <a:pt x="13" y="306"/>
                      </a:lnTo>
                      <a:lnTo>
                        <a:pt x="6" y="326"/>
                      </a:lnTo>
                      <a:lnTo>
                        <a:pt x="1" y="352"/>
                      </a:lnTo>
                      <a:lnTo>
                        <a:pt x="0" y="370"/>
                      </a:lnTo>
                      <a:lnTo>
                        <a:pt x="2" y="391"/>
                      </a:lnTo>
                      <a:lnTo>
                        <a:pt x="8" y="409"/>
                      </a:lnTo>
                      <a:lnTo>
                        <a:pt x="17" y="431"/>
                      </a:lnTo>
                    </a:path>
                  </a:pathLst>
                </a:custGeom>
                <a:noFill/>
                <a:ln w="144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6710400" y="2677680"/>
                  <a:ext cx="1895400" cy="3044880"/>
                  <a:chOff x="6710400" y="2677680"/>
                  <a:chExt cx="1895400" cy="3044880"/>
                </a:xfrm>
              </p:grpSpPr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6710400" y="2677680"/>
                    <a:ext cx="1895400" cy="3044880"/>
                    <a:chOff x="6710400" y="2677680"/>
                    <a:chExt cx="1895400" cy="304488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8108640" y="3544560"/>
                      <a:ext cx="497160" cy="2122560"/>
                      <a:chOff x="8108640" y="3544560"/>
                      <a:chExt cx="497160" cy="212256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 flipH="1">
                        <a:off x="8206920" y="3544560"/>
                        <a:ext cx="377640" cy="212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2673">
                            <a:moveTo>
                              <a:pt x="67" y="0"/>
                            </a:moveTo>
                            <a:lnTo>
                              <a:pt x="17" y="429"/>
                            </a:lnTo>
                            <a:lnTo>
                              <a:pt x="11" y="503"/>
                            </a:lnTo>
                            <a:lnTo>
                              <a:pt x="5" y="642"/>
                            </a:lnTo>
                            <a:lnTo>
                              <a:pt x="0" y="735"/>
                            </a:lnTo>
                            <a:lnTo>
                              <a:pt x="8" y="1176"/>
                            </a:lnTo>
                            <a:lnTo>
                              <a:pt x="25" y="1655"/>
                            </a:lnTo>
                            <a:lnTo>
                              <a:pt x="102" y="2378"/>
                            </a:lnTo>
                            <a:lnTo>
                              <a:pt x="153" y="2549"/>
                            </a:lnTo>
                            <a:lnTo>
                              <a:pt x="238" y="2673"/>
                            </a:lnTo>
                            <a:lnTo>
                              <a:pt x="173" y="1894"/>
                            </a:lnTo>
                            <a:lnTo>
                              <a:pt x="152" y="1594"/>
                            </a:lnTo>
                            <a:lnTo>
                              <a:pt x="102" y="1030"/>
                            </a:lnTo>
                            <a:lnTo>
                              <a:pt x="83" y="546"/>
                            </a:lnTo>
                            <a:lnTo>
                              <a:pt x="67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 flipH="1">
                        <a:off x="8108280" y="3973320"/>
                        <a:ext cx="497160" cy="15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3" h="1993">
                            <a:moveTo>
                              <a:pt x="22" y="0"/>
                            </a:moveTo>
                            <a:lnTo>
                              <a:pt x="3" y="324"/>
                            </a:lnTo>
                            <a:lnTo>
                              <a:pt x="1" y="405"/>
                            </a:lnTo>
                            <a:lnTo>
                              <a:pt x="0" y="490"/>
                            </a:lnTo>
                            <a:lnTo>
                              <a:pt x="3" y="594"/>
                            </a:lnTo>
                            <a:lnTo>
                              <a:pt x="7" y="688"/>
                            </a:lnTo>
                            <a:lnTo>
                              <a:pt x="14" y="796"/>
                            </a:lnTo>
                            <a:lnTo>
                              <a:pt x="16" y="860"/>
                            </a:lnTo>
                            <a:lnTo>
                              <a:pt x="20" y="974"/>
                            </a:lnTo>
                            <a:lnTo>
                              <a:pt x="27" y="1062"/>
                            </a:lnTo>
                            <a:lnTo>
                              <a:pt x="33" y="1140"/>
                            </a:lnTo>
                            <a:lnTo>
                              <a:pt x="41" y="1225"/>
                            </a:lnTo>
                            <a:lnTo>
                              <a:pt x="49" y="1293"/>
                            </a:lnTo>
                            <a:lnTo>
                              <a:pt x="54" y="1366"/>
                            </a:lnTo>
                            <a:lnTo>
                              <a:pt x="62" y="1424"/>
                            </a:lnTo>
                            <a:lnTo>
                              <a:pt x="67" y="1484"/>
                            </a:lnTo>
                            <a:lnTo>
                              <a:pt x="83" y="1630"/>
                            </a:lnTo>
                            <a:lnTo>
                              <a:pt x="91" y="1703"/>
                            </a:lnTo>
                            <a:lnTo>
                              <a:pt x="100" y="1757"/>
                            </a:lnTo>
                            <a:lnTo>
                              <a:pt x="113" y="1827"/>
                            </a:lnTo>
                            <a:lnTo>
                              <a:pt x="130" y="1876"/>
                            </a:lnTo>
                            <a:lnTo>
                              <a:pt x="140" y="1923"/>
                            </a:lnTo>
                            <a:lnTo>
                              <a:pt x="158" y="1993"/>
                            </a:lnTo>
                            <a:lnTo>
                              <a:pt x="180" y="1964"/>
                            </a:lnTo>
                            <a:lnTo>
                              <a:pt x="210" y="1923"/>
                            </a:lnTo>
                            <a:lnTo>
                              <a:pt x="232" y="1900"/>
                            </a:lnTo>
                            <a:lnTo>
                              <a:pt x="252" y="1876"/>
                            </a:lnTo>
                            <a:lnTo>
                              <a:pt x="272" y="1858"/>
                            </a:lnTo>
                            <a:lnTo>
                              <a:pt x="287" y="1840"/>
                            </a:lnTo>
                            <a:lnTo>
                              <a:pt x="302" y="1821"/>
                            </a:lnTo>
                            <a:lnTo>
                              <a:pt x="309" y="1803"/>
                            </a:lnTo>
                            <a:lnTo>
                              <a:pt x="313" y="1782"/>
                            </a:lnTo>
                            <a:lnTo>
                              <a:pt x="311" y="1754"/>
                            </a:lnTo>
                            <a:lnTo>
                              <a:pt x="303" y="1716"/>
                            </a:lnTo>
                            <a:lnTo>
                              <a:pt x="282" y="1645"/>
                            </a:lnTo>
                            <a:lnTo>
                              <a:pt x="261" y="1583"/>
                            </a:lnTo>
                            <a:lnTo>
                              <a:pt x="248" y="1535"/>
                            </a:lnTo>
                            <a:lnTo>
                              <a:pt x="223" y="1456"/>
                            </a:lnTo>
                            <a:lnTo>
                              <a:pt x="190" y="1353"/>
                            </a:lnTo>
                            <a:lnTo>
                              <a:pt x="180" y="1309"/>
                            </a:lnTo>
                            <a:lnTo>
                              <a:pt x="165" y="1252"/>
                            </a:lnTo>
                            <a:lnTo>
                              <a:pt x="150" y="1198"/>
                            </a:lnTo>
                            <a:lnTo>
                              <a:pt x="136" y="1135"/>
                            </a:lnTo>
                            <a:lnTo>
                              <a:pt x="123" y="1085"/>
                            </a:lnTo>
                            <a:lnTo>
                              <a:pt x="113" y="1033"/>
                            </a:lnTo>
                            <a:lnTo>
                              <a:pt x="99" y="969"/>
                            </a:lnTo>
                            <a:lnTo>
                              <a:pt x="87" y="903"/>
                            </a:lnTo>
                            <a:lnTo>
                              <a:pt x="79" y="851"/>
                            </a:lnTo>
                            <a:lnTo>
                              <a:pt x="68" y="779"/>
                            </a:lnTo>
                            <a:lnTo>
                              <a:pt x="62" y="732"/>
                            </a:lnTo>
                            <a:lnTo>
                              <a:pt x="55" y="688"/>
                            </a:lnTo>
                            <a:lnTo>
                              <a:pt x="47" y="630"/>
                            </a:lnTo>
                            <a:lnTo>
                              <a:pt x="41" y="553"/>
                            </a:lnTo>
                            <a:lnTo>
                              <a:pt x="34" y="466"/>
                            </a:lnTo>
                            <a:lnTo>
                              <a:pt x="25" y="387"/>
                            </a:lnTo>
                            <a:lnTo>
                              <a:pt x="22" y="324"/>
                            </a:lnTo>
                            <a:lnTo>
                              <a:pt x="21" y="245"/>
                            </a:lnTo>
                            <a:lnTo>
                              <a:pt x="22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1" name=""/>
                    <p:cNvGrpSpPr/>
                    <p:nvPr/>
                  </p:nvGrpSpPr>
                  <p:grpSpPr>
                    <a:xfrm>
                      <a:off x="7796160" y="4090680"/>
                      <a:ext cx="379440" cy="1571760"/>
                      <a:chOff x="7796160" y="4090680"/>
                      <a:chExt cx="379440" cy="1571760"/>
                    </a:xfrm>
                  </p:grpSpPr>
                  <p:sp>
                    <p:nvSpPr>
                      <p:cNvPr id="212" name=""/>
                      <p:cNvSpPr/>
                      <p:nvPr/>
                    </p:nvSpPr>
                    <p:spPr>
                      <a:xfrm flipH="1">
                        <a:off x="8005680" y="4090680"/>
                        <a:ext cx="169920" cy="131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653">
                            <a:moveTo>
                              <a:pt x="40" y="0"/>
                            </a:moveTo>
                            <a:lnTo>
                              <a:pt x="7" y="514"/>
                            </a:lnTo>
                            <a:lnTo>
                              <a:pt x="0" y="719"/>
                            </a:lnTo>
                            <a:lnTo>
                              <a:pt x="4" y="818"/>
                            </a:lnTo>
                            <a:lnTo>
                              <a:pt x="16" y="1028"/>
                            </a:lnTo>
                            <a:lnTo>
                              <a:pt x="74" y="1518"/>
                            </a:lnTo>
                            <a:lnTo>
                              <a:pt x="107" y="1653"/>
                            </a:lnTo>
                            <a:lnTo>
                              <a:pt x="90" y="1200"/>
                            </a:lnTo>
                            <a:lnTo>
                              <a:pt x="74" y="795"/>
                            </a:lnTo>
                            <a:lnTo>
                              <a:pt x="66" y="415"/>
                            </a:lnTo>
                            <a:lnTo>
                              <a:pt x="4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 flipH="1">
                        <a:off x="7796160" y="4727160"/>
                        <a:ext cx="372960" cy="9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5" h="1178">
                            <a:moveTo>
                              <a:pt x="0" y="0"/>
                            </a:moveTo>
                            <a:lnTo>
                              <a:pt x="23" y="476"/>
                            </a:lnTo>
                            <a:lnTo>
                              <a:pt x="23" y="527"/>
                            </a:lnTo>
                            <a:lnTo>
                              <a:pt x="27" y="587"/>
                            </a:lnTo>
                            <a:lnTo>
                              <a:pt x="32" y="648"/>
                            </a:lnTo>
                            <a:lnTo>
                              <a:pt x="36" y="712"/>
                            </a:lnTo>
                            <a:lnTo>
                              <a:pt x="42" y="779"/>
                            </a:lnTo>
                            <a:lnTo>
                              <a:pt x="49" y="838"/>
                            </a:lnTo>
                            <a:lnTo>
                              <a:pt x="58" y="901"/>
                            </a:lnTo>
                            <a:lnTo>
                              <a:pt x="66" y="960"/>
                            </a:lnTo>
                            <a:lnTo>
                              <a:pt x="82" y="1036"/>
                            </a:lnTo>
                            <a:lnTo>
                              <a:pt x="95" y="1091"/>
                            </a:lnTo>
                            <a:lnTo>
                              <a:pt x="117" y="1178"/>
                            </a:lnTo>
                            <a:lnTo>
                              <a:pt x="120" y="1140"/>
                            </a:lnTo>
                            <a:lnTo>
                              <a:pt x="137" y="1108"/>
                            </a:lnTo>
                            <a:lnTo>
                              <a:pt x="159" y="1065"/>
                            </a:lnTo>
                            <a:lnTo>
                              <a:pt x="179" y="1030"/>
                            </a:lnTo>
                            <a:lnTo>
                              <a:pt x="235" y="948"/>
                            </a:lnTo>
                            <a:lnTo>
                              <a:pt x="210" y="905"/>
                            </a:lnTo>
                            <a:lnTo>
                              <a:pt x="187" y="854"/>
                            </a:lnTo>
                            <a:lnTo>
                              <a:pt x="163" y="790"/>
                            </a:lnTo>
                            <a:lnTo>
                              <a:pt x="133" y="717"/>
                            </a:lnTo>
                            <a:lnTo>
                              <a:pt x="112" y="660"/>
                            </a:lnTo>
                            <a:lnTo>
                              <a:pt x="95" y="600"/>
                            </a:lnTo>
                            <a:lnTo>
                              <a:pt x="78" y="522"/>
                            </a:lnTo>
                            <a:lnTo>
                              <a:pt x="58" y="425"/>
                            </a:lnTo>
                            <a:lnTo>
                              <a:pt x="42" y="332"/>
                            </a:lnTo>
                            <a:lnTo>
                              <a:pt x="25" y="24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4" name=""/>
                    <p:cNvGrpSpPr/>
                    <p:nvPr/>
                  </p:nvGrpSpPr>
                  <p:grpSpPr>
                    <a:xfrm>
                      <a:off x="6710400" y="2677680"/>
                      <a:ext cx="1876320" cy="3044880"/>
                      <a:chOff x="6710400" y="2677680"/>
                      <a:chExt cx="1876320" cy="3044880"/>
                    </a:xfrm>
                  </p:grpSpPr>
                  <p:sp>
                    <p:nvSpPr>
                      <p:cNvPr id="215" name=""/>
                      <p:cNvSpPr/>
                      <p:nvPr/>
                    </p:nvSpPr>
                    <p:spPr>
                      <a:xfrm flipH="1">
                        <a:off x="7484760" y="4246200"/>
                        <a:ext cx="10605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8" h="232">
                            <a:moveTo>
                              <a:pt x="0" y="232"/>
                            </a:moveTo>
                            <a:lnTo>
                              <a:pt x="249" y="196"/>
                            </a:lnTo>
                            <a:lnTo>
                              <a:pt x="429" y="159"/>
                            </a:lnTo>
                            <a:lnTo>
                              <a:pt x="668" y="0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 flipH="1">
                        <a:off x="6909840" y="3035160"/>
                        <a:ext cx="1528920" cy="2598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3" h="3274">
                            <a:moveTo>
                              <a:pt x="0" y="0"/>
                            </a:moveTo>
                            <a:lnTo>
                              <a:pt x="608" y="1558"/>
                            </a:lnTo>
                            <a:lnTo>
                              <a:pt x="963" y="3274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7" name=""/>
                      <p:cNvSpPr/>
                      <p:nvPr/>
                    </p:nvSpPr>
                    <p:spPr>
                      <a:xfrm flipH="1">
                        <a:off x="6729120" y="3036600"/>
                        <a:ext cx="1710000" cy="243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7" h="3061">
                            <a:moveTo>
                              <a:pt x="0" y="0"/>
                            </a:moveTo>
                            <a:lnTo>
                              <a:pt x="536" y="1578"/>
                            </a:lnTo>
                            <a:lnTo>
                              <a:pt x="1077" y="3061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 flipH="1" flipV="1">
                        <a:off x="6710400" y="5476320"/>
                        <a:ext cx="715680" cy="73080"/>
                      </a:xfrm>
                      <a:prstGeom prst="line">
                        <a:avLst/>
                      </a:prstGeom>
                      <a:ln w="144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6280" bIns="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 flipH="1" flipV="1">
                        <a:off x="7777080" y="5503680"/>
                        <a:ext cx="190440" cy="171360"/>
                      </a:xfrm>
                      <a:prstGeom prst="line">
                        <a:avLst/>
                      </a:prstGeom>
                      <a:ln w="144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 flipH="1">
                        <a:off x="7124040" y="5503680"/>
                        <a:ext cx="659160" cy="21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5" h="276">
                            <a:moveTo>
                              <a:pt x="0" y="0"/>
                            </a:moveTo>
                            <a:lnTo>
                              <a:pt x="409" y="270"/>
                            </a:lnTo>
                            <a:lnTo>
                              <a:pt x="415" y="276"/>
                            </a:lnTo>
                          </a:path>
                        </a:pathLst>
                      </a:custGeom>
                      <a:noFill/>
                      <a:ln w="14400">
                        <a:solidFill>
                          <a:srgbClr val="a0a0a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 flipH="1">
                        <a:off x="8437320" y="2677680"/>
                        <a:ext cx="149400" cy="368280"/>
                      </a:xfrm>
                      <a:prstGeom prst="line">
                        <a:avLst/>
                      </a:prstGeom>
                      <a:ln w="14400">
                        <a:solidFill>
                          <a:srgbClr val="a0a0a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6777000" y="3027240"/>
                      <a:ext cx="1668240" cy="2504880"/>
                      <a:chOff x="6777000" y="3027240"/>
                      <a:chExt cx="1668240" cy="250488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 flipH="1">
                        <a:off x="7869240" y="3035160"/>
                        <a:ext cx="573120" cy="1393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1" h="1755">
                            <a:moveTo>
                              <a:pt x="0" y="0"/>
                            </a:moveTo>
                            <a:lnTo>
                              <a:pt x="19" y="59"/>
                            </a:lnTo>
                            <a:lnTo>
                              <a:pt x="46" y="198"/>
                            </a:lnTo>
                            <a:lnTo>
                              <a:pt x="76" y="351"/>
                            </a:lnTo>
                            <a:lnTo>
                              <a:pt x="91" y="429"/>
                            </a:lnTo>
                            <a:lnTo>
                              <a:pt x="108" y="497"/>
                            </a:lnTo>
                            <a:lnTo>
                              <a:pt x="139" y="633"/>
                            </a:lnTo>
                            <a:lnTo>
                              <a:pt x="217" y="963"/>
                            </a:lnTo>
                            <a:lnTo>
                              <a:pt x="255" y="1117"/>
                            </a:lnTo>
                            <a:lnTo>
                              <a:pt x="280" y="1246"/>
                            </a:lnTo>
                            <a:lnTo>
                              <a:pt x="309" y="1355"/>
                            </a:lnTo>
                            <a:lnTo>
                              <a:pt x="336" y="1489"/>
                            </a:lnTo>
                            <a:lnTo>
                              <a:pt x="357" y="1643"/>
                            </a:lnTo>
                            <a:lnTo>
                              <a:pt x="361" y="1755"/>
                            </a:lnTo>
                            <a:lnTo>
                              <a:pt x="242" y="1523"/>
                            </a:lnTo>
                            <a:lnTo>
                              <a:pt x="64" y="543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flipH="1">
                        <a:off x="6777000" y="3027240"/>
                        <a:ext cx="1668240" cy="2504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1" h="3157">
                            <a:moveTo>
                              <a:pt x="0" y="0"/>
                            </a:moveTo>
                            <a:lnTo>
                              <a:pt x="43" y="422"/>
                            </a:lnTo>
                            <a:lnTo>
                              <a:pt x="48" y="473"/>
                            </a:lnTo>
                            <a:lnTo>
                              <a:pt x="52" y="527"/>
                            </a:lnTo>
                            <a:lnTo>
                              <a:pt x="227" y="1783"/>
                            </a:lnTo>
                            <a:lnTo>
                              <a:pt x="273" y="2194"/>
                            </a:lnTo>
                            <a:lnTo>
                              <a:pt x="286" y="2276"/>
                            </a:lnTo>
                            <a:lnTo>
                              <a:pt x="300" y="2366"/>
                            </a:lnTo>
                            <a:lnTo>
                              <a:pt x="318" y="2456"/>
                            </a:lnTo>
                            <a:lnTo>
                              <a:pt x="337" y="2538"/>
                            </a:lnTo>
                            <a:lnTo>
                              <a:pt x="356" y="2611"/>
                            </a:lnTo>
                            <a:lnTo>
                              <a:pt x="381" y="2682"/>
                            </a:lnTo>
                            <a:lnTo>
                              <a:pt x="553" y="3026"/>
                            </a:lnTo>
                            <a:lnTo>
                              <a:pt x="632" y="3157"/>
                            </a:lnTo>
                            <a:lnTo>
                              <a:pt x="1051" y="3070"/>
                            </a:lnTo>
                            <a:lnTo>
                              <a:pt x="664" y="2387"/>
                            </a:lnTo>
                            <a:lnTo>
                              <a:pt x="427" y="1833"/>
                            </a:lnTo>
                            <a:lnTo>
                              <a:pt x="316" y="1500"/>
                            </a:lnTo>
                            <a:lnTo>
                              <a:pt x="290" y="1421"/>
                            </a:lnTo>
                            <a:lnTo>
                              <a:pt x="269" y="1350"/>
                            </a:lnTo>
                            <a:lnTo>
                              <a:pt x="241" y="1255"/>
                            </a:lnTo>
                            <a:lnTo>
                              <a:pt x="219" y="1169"/>
                            </a:lnTo>
                            <a:lnTo>
                              <a:pt x="156" y="925"/>
                            </a:lnTo>
                            <a:lnTo>
                              <a:pt x="130" y="810"/>
                            </a:lnTo>
                            <a:lnTo>
                              <a:pt x="96" y="639"/>
                            </a:lnTo>
                            <a:lnTo>
                              <a:pt x="74" y="510"/>
                            </a:lnTo>
                            <a:lnTo>
                              <a:pt x="62" y="46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5" name=""/>
                  <p:cNvSpPr/>
                  <p:nvPr/>
                </p:nvSpPr>
                <p:spPr>
                  <a:xfrm flipH="1">
                    <a:off x="7800840" y="2903400"/>
                    <a:ext cx="6667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49">
                        <a:moveTo>
                          <a:pt x="0" y="15"/>
                        </a:moveTo>
                        <a:lnTo>
                          <a:pt x="30" y="149"/>
                        </a:lnTo>
                        <a:lnTo>
                          <a:pt x="67" y="129"/>
                        </a:lnTo>
                        <a:lnTo>
                          <a:pt x="98" y="118"/>
                        </a:lnTo>
                        <a:lnTo>
                          <a:pt x="130" y="123"/>
                        </a:lnTo>
                        <a:lnTo>
                          <a:pt x="169" y="141"/>
                        </a:lnTo>
                        <a:lnTo>
                          <a:pt x="203" y="143"/>
                        </a:lnTo>
                        <a:lnTo>
                          <a:pt x="230" y="137"/>
                        </a:lnTo>
                        <a:lnTo>
                          <a:pt x="278" y="117"/>
                        </a:lnTo>
                        <a:lnTo>
                          <a:pt x="317" y="108"/>
                        </a:lnTo>
                        <a:lnTo>
                          <a:pt x="365" y="112"/>
                        </a:lnTo>
                        <a:lnTo>
                          <a:pt x="420" y="129"/>
                        </a:lnTo>
                        <a:lnTo>
                          <a:pt x="386" y="100"/>
                        </a:lnTo>
                        <a:lnTo>
                          <a:pt x="352" y="70"/>
                        </a:lnTo>
                        <a:lnTo>
                          <a:pt x="323" y="51"/>
                        </a:lnTo>
                        <a:lnTo>
                          <a:pt x="292" y="39"/>
                        </a:lnTo>
                        <a:lnTo>
                          <a:pt x="275" y="39"/>
                        </a:lnTo>
                        <a:lnTo>
                          <a:pt x="241" y="45"/>
                        </a:lnTo>
                        <a:lnTo>
                          <a:pt x="200" y="47"/>
                        </a:lnTo>
                        <a:lnTo>
                          <a:pt x="173" y="39"/>
                        </a:lnTo>
                        <a:lnTo>
                          <a:pt x="138" y="21"/>
                        </a:lnTo>
                        <a:lnTo>
                          <a:pt x="109" y="9"/>
                        </a:lnTo>
                        <a:lnTo>
                          <a:pt x="81" y="3"/>
                        </a:lnTo>
                        <a:lnTo>
                          <a:pt x="50" y="0"/>
                        </a:lnTo>
                        <a:lnTo>
                          <a:pt x="0" y="15"/>
                        </a:lnTo>
                        <a:close/>
                      </a:path>
                    </a:pathLst>
                  </a:custGeom>
                  <a:solidFill>
                    <a:srgbClr val="0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7819920" y="5716440"/>
                  <a:ext cx="112680" cy="88920"/>
                  <a:chOff x="7819920" y="5716440"/>
                  <a:chExt cx="112680" cy="8892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 flipH="1">
                    <a:off x="7859160" y="5729040"/>
                    <a:ext cx="730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96">
                        <a:moveTo>
                          <a:pt x="0" y="12"/>
                        </a:moveTo>
                        <a:lnTo>
                          <a:pt x="24" y="96"/>
                        </a:lnTo>
                        <a:lnTo>
                          <a:pt x="46" y="72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flipH="1">
                    <a:off x="7819920" y="5716440"/>
                    <a:ext cx="842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82">
                        <a:moveTo>
                          <a:pt x="0" y="12"/>
                        </a:moveTo>
                        <a:lnTo>
                          <a:pt x="32" y="82"/>
                        </a:lnTo>
                        <a:lnTo>
                          <a:pt x="53" y="59"/>
                        </a:lnTo>
                        <a:lnTo>
                          <a:pt x="12" y="0"/>
                        </a:lnTo>
                        <a:lnTo>
                          <a:pt x="0" y="1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6970680" y="5567040"/>
                  <a:ext cx="1365120" cy="420840"/>
                  <a:chOff x="6970680" y="5567040"/>
                  <a:chExt cx="1365120" cy="420840"/>
                </a:xfrm>
              </p:grpSpPr>
              <p:sp>
                <p:nvSpPr>
                  <p:cNvPr id="230" name=""/>
                  <p:cNvSpPr/>
                  <p:nvPr/>
                </p:nvSpPr>
                <p:spPr>
                  <a:xfrm flipH="1">
                    <a:off x="6970680" y="5567040"/>
                    <a:ext cx="1365120" cy="333360"/>
                  </a:xfrm>
                  <a:custGeom>
                    <a:avLst/>
                    <a:gdLst/>
                    <a:ahLst/>
                    <a:rect l="l" t="t" r="r" b="b"/>
                    <a:pathLst>
                      <a:path w="860" h="422">
                        <a:moveTo>
                          <a:pt x="0" y="0"/>
                        </a:moveTo>
                        <a:lnTo>
                          <a:pt x="85" y="127"/>
                        </a:lnTo>
                        <a:lnTo>
                          <a:pt x="123" y="171"/>
                        </a:lnTo>
                        <a:lnTo>
                          <a:pt x="188" y="239"/>
                        </a:lnTo>
                        <a:lnTo>
                          <a:pt x="243" y="293"/>
                        </a:lnTo>
                        <a:lnTo>
                          <a:pt x="294" y="338"/>
                        </a:lnTo>
                        <a:lnTo>
                          <a:pt x="342" y="369"/>
                        </a:lnTo>
                        <a:lnTo>
                          <a:pt x="372" y="382"/>
                        </a:lnTo>
                        <a:lnTo>
                          <a:pt x="401" y="394"/>
                        </a:lnTo>
                        <a:lnTo>
                          <a:pt x="439" y="408"/>
                        </a:lnTo>
                        <a:lnTo>
                          <a:pt x="473" y="417"/>
                        </a:lnTo>
                        <a:lnTo>
                          <a:pt x="507" y="422"/>
                        </a:lnTo>
                        <a:lnTo>
                          <a:pt x="555" y="422"/>
                        </a:lnTo>
                        <a:lnTo>
                          <a:pt x="610" y="420"/>
                        </a:lnTo>
                        <a:lnTo>
                          <a:pt x="661" y="414"/>
                        </a:lnTo>
                        <a:lnTo>
                          <a:pt x="710" y="405"/>
                        </a:lnTo>
                        <a:lnTo>
                          <a:pt x="777" y="393"/>
                        </a:lnTo>
                        <a:lnTo>
                          <a:pt x="860" y="373"/>
                        </a:lnTo>
                      </a:path>
                    </a:pathLst>
                  </a:custGeom>
                  <a:noFill/>
                  <a:ln w="144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flipH="1">
                    <a:off x="7807320" y="5827320"/>
                    <a:ext cx="68040" cy="10332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 flipH="1">
                    <a:off x="7473960" y="5900400"/>
                    <a:ext cx="74520" cy="8748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flipH="1">
                    <a:off x="7146720" y="5895720"/>
                    <a:ext cx="61920" cy="7308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"/>
                <p:cNvGrpSpPr/>
                <p:nvPr/>
              </p:nvGrpSpPr>
              <p:grpSpPr>
                <a:xfrm>
                  <a:off x="5900760" y="5679720"/>
                  <a:ext cx="2103120" cy="366840"/>
                  <a:chOff x="5900760" y="5679720"/>
                  <a:chExt cx="2103120" cy="366840"/>
                </a:xfrm>
              </p:grpSpPr>
              <p:sp>
                <p:nvSpPr>
                  <p:cNvPr id="235" name=""/>
                  <p:cNvSpPr/>
                  <p:nvPr/>
                </p:nvSpPr>
                <p:spPr>
                  <a:xfrm flipH="1">
                    <a:off x="6430680" y="5849640"/>
                    <a:ext cx="157320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91" h="248">
                        <a:moveTo>
                          <a:pt x="0" y="0"/>
                        </a:moveTo>
                        <a:lnTo>
                          <a:pt x="45" y="89"/>
                        </a:lnTo>
                        <a:lnTo>
                          <a:pt x="66" y="113"/>
                        </a:lnTo>
                        <a:lnTo>
                          <a:pt x="100" y="146"/>
                        </a:lnTo>
                        <a:lnTo>
                          <a:pt x="142" y="181"/>
                        </a:lnTo>
                        <a:lnTo>
                          <a:pt x="185" y="204"/>
                        </a:lnTo>
                        <a:lnTo>
                          <a:pt x="233" y="224"/>
                        </a:lnTo>
                        <a:lnTo>
                          <a:pt x="283" y="236"/>
                        </a:lnTo>
                        <a:lnTo>
                          <a:pt x="330" y="247"/>
                        </a:lnTo>
                        <a:lnTo>
                          <a:pt x="395" y="248"/>
                        </a:lnTo>
                        <a:lnTo>
                          <a:pt x="500" y="242"/>
                        </a:lnTo>
                        <a:lnTo>
                          <a:pt x="591" y="230"/>
                        </a:lnTo>
                        <a:lnTo>
                          <a:pt x="692" y="212"/>
                        </a:lnTo>
                        <a:lnTo>
                          <a:pt x="783" y="188"/>
                        </a:lnTo>
                        <a:lnTo>
                          <a:pt x="896" y="153"/>
                        </a:lnTo>
                        <a:lnTo>
                          <a:pt x="975" y="125"/>
                        </a:lnTo>
                        <a:lnTo>
                          <a:pt x="991" y="25"/>
                        </a:lnTo>
                        <a:lnTo>
                          <a:pt x="892" y="64"/>
                        </a:lnTo>
                        <a:lnTo>
                          <a:pt x="800" y="101"/>
                        </a:lnTo>
                        <a:lnTo>
                          <a:pt x="702" y="134"/>
                        </a:lnTo>
                        <a:lnTo>
                          <a:pt x="579" y="162"/>
                        </a:lnTo>
                        <a:lnTo>
                          <a:pt x="484" y="177"/>
                        </a:lnTo>
                        <a:lnTo>
                          <a:pt x="405" y="186"/>
                        </a:lnTo>
                        <a:lnTo>
                          <a:pt x="313" y="183"/>
                        </a:lnTo>
                        <a:lnTo>
                          <a:pt x="235" y="171"/>
                        </a:lnTo>
                        <a:lnTo>
                          <a:pt x="163" y="153"/>
                        </a:lnTo>
                        <a:lnTo>
                          <a:pt x="109" y="125"/>
                        </a:lnTo>
                        <a:lnTo>
                          <a:pt x="66" y="89"/>
                        </a:lnTo>
                        <a:lnTo>
                          <a:pt x="31" y="4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927760" y="5684400"/>
                    <a:ext cx="1339560" cy="312840"/>
                    <a:chOff x="5927760" y="5684400"/>
                    <a:chExt cx="1339560" cy="31284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flipH="1">
                      <a:off x="6339960" y="5808240"/>
                      <a:ext cx="927000" cy="18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4" h="237">
                          <a:moveTo>
                            <a:pt x="0" y="237"/>
                          </a:moveTo>
                          <a:lnTo>
                            <a:pt x="7" y="217"/>
                          </a:lnTo>
                          <a:lnTo>
                            <a:pt x="19" y="202"/>
                          </a:lnTo>
                          <a:lnTo>
                            <a:pt x="32" y="190"/>
                          </a:lnTo>
                          <a:lnTo>
                            <a:pt x="50" y="181"/>
                          </a:lnTo>
                          <a:lnTo>
                            <a:pt x="70" y="175"/>
                          </a:lnTo>
                          <a:lnTo>
                            <a:pt x="91" y="169"/>
                          </a:lnTo>
                          <a:lnTo>
                            <a:pt x="118" y="162"/>
                          </a:lnTo>
                          <a:lnTo>
                            <a:pt x="141" y="155"/>
                          </a:lnTo>
                          <a:lnTo>
                            <a:pt x="172" y="149"/>
                          </a:lnTo>
                          <a:lnTo>
                            <a:pt x="205" y="141"/>
                          </a:lnTo>
                          <a:lnTo>
                            <a:pt x="235" y="134"/>
                          </a:lnTo>
                          <a:lnTo>
                            <a:pt x="270" y="124"/>
                          </a:lnTo>
                          <a:lnTo>
                            <a:pt x="304" y="112"/>
                          </a:lnTo>
                          <a:lnTo>
                            <a:pt x="339" y="100"/>
                          </a:lnTo>
                          <a:lnTo>
                            <a:pt x="380" y="82"/>
                          </a:lnTo>
                          <a:lnTo>
                            <a:pt x="426" y="64"/>
                          </a:lnTo>
                          <a:lnTo>
                            <a:pt x="479" y="41"/>
                          </a:lnTo>
                          <a:lnTo>
                            <a:pt x="512" y="29"/>
                          </a:lnTo>
                          <a:lnTo>
                            <a:pt x="584" y="0"/>
                          </a:lnTo>
                          <a:lnTo>
                            <a:pt x="541" y="86"/>
                          </a:lnTo>
                          <a:lnTo>
                            <a:pt x="488" y="106"/>
                          </a:lnTo>
                          <a:lnTo>
                            <a:pt x="420" y="131"/>
                          </a:lnTo>
                          <a:lnTo>
                            <a:pt x="347" y="158"/>
                          </a:lnTo>
                          <a:lnTo>
                            <a:pt x="295" y="175"/>
                          </a:lnTo>
                          <a:lnTo>
                            <a:pt x="221" y="196"/>
                          </a:lnTo>
                          <a:lnTo>
                            <a:pt x="153" y="214"/>
                          </a:lnTo>
                          <a:lnTo>
                            <a:pt x="94" y="225"/>
                          </a:lnTo>
                          <a:lnTo>
                            <a:pt x="0" y="237"/>
                          </a:lnTo>
                          <a:close/>
                        </a:path>
                      </a:pathLst>
                    </a:custGeom>
                    <a:solidFill>
                      <a:srgbClr val="404040"/>
                    </a:solidFill>
                    <a:ln w="14400">
                      <a:solidFill>
                        <a:srgbClr val="80808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>
                      <a:off x="5927400" y="5684400"/>
                      <a:ext cx="539640" cy="14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81">
                          <a:moveTo>
                            <a:pt x="0" y="174"/>
                          </a:moveTo>
                          <a:lnTo>
                            <a:pt x="258" y="24"/>
                          </a:lnTo>
                          <a:lnTo>
                            <a:pt x="283" y="12"/>
                          </a:lnTo>
                          <a:lnTo>
                            <a:pt x="107" y="27"/>
                          </a:lnTo>
                          <a:lnTo>
                            <a:pt x="127" y="15"/>
                          </a:lnTo>
                          <a:lnTo>
                            <a:pt x="340" y="0"/>
                          </a:lnTo>
                          <a:lnTo>
                            <a:pt x="25" y="181"/>
                          </a:lnTo>
                          <a:lnTo>
                            <a:pt x="0" y="174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 flipH="1">
                    <a:off x="5900760" y="5679720"/>
                    <a:ext cx="590400" cy="32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" h="411">
                        <a:moveTo>
                          <a:pt x="142" y="401"/>
                        </a:moveTo>
                        <a:lnTo>
                          <a:pt x="155" y="399"/>
                        </a:lnTo>
                        <a:lnTo>
                          <a:pt x="168" y="399"/>
                        </a:lnTo>
                        <a:lnTo>
                          <a:pt x="177" y="401"/>
                        </a:lnTo>
                        <a:lnTo>
                          <a:pt x="187" y="405"/>
                        </a:lnTo>
                        <a:lnTo>
                          <a:pt x="197" y="411"/>
                        </a:lnTo>
                        <a:lnTo>
                          <a:pt x="209" y="393"/>
                        </a:lnTo>
                        <a:lnTo>
                          <a:pt x="224" y="366"/>
                        </a:lnTo>
                        <a:lnTo>
                          <a:pt x="237" y="347"/>
                        </a:lnTo>
                        <a:lnTo>
                          <a:pt x="256" y="323"/>
                        </a:lnTo>
                        <a:lnTo>
                          <a:pt x="272" y="303"/>
                        </a:lnTo>
                        <a:lnTo>
                          <a:pt x="290" y="277"/>
                        </a:lnTo>
                        <a:lnTo>
                          <a:pt x="306" y="255"/>
                        </a:lnTo>
                        <a:lnTo>
                          <a:pt x="322" y="230"/>
                        </a:lnTo>
                        <a:lnTo>
                          <a:pt x="338" y="204"/>
                        </a:lnTo>
                        <a:lnTo>
                          <a:pt x="348" y="178"/>
                        </a:lnTo>
                        <a:lnTo>
                          <a:pt x="359" y="153"/>
                        </a:lnTo>
                        <a:lnTo>
                          <a:pt x="364" y="130"/>
                        </a:lnTo>
                        <a:lnTo>
                          <a:pt x="371" y="107"/>
                        </a:lnTo>
                        <a:lnTo>
                          <a:pt x="372" y="93"/>
                        </a:lnTo>
                        <a:lnTo>
                          <a:pt x="360" y="2"/>
                        </a:lnTo>
                        <a:lnTo>
                          <a:pt x="357" y="0"/>
                        </a:lnTo>
                        <a:lnTo>
                          <a:pt x="318" y="22"/>
                        </a:lnTo>
                        <a:lnTo>
                          <a:pt x="226" y="77"/>
                        </a:lnTo>
                        <a:lnTo>
                          <a:pt x="137" y="128"/>
                        </a:lnTo>
                        <a:lnTo>
                          <a:pt x="23" y="195"/>
                        </a:lnTo>
                        <a:lnTo>
                          <a:pt x="24" y="232"/>
                        </a:lnTo>
                        <a:lnTo>
                          <a:pt x="25" y="248"/>
                        </a:lnTo>
                        <a:lnTo>
                          <a:pt x="16" y="267"/>
                        </a:lnTo>
                        <a:lnTo>
                          <a:pt x="7" y="288"/>
                        </a:lnTo>
                        <a:lnTo>
                          <a:pt x="2" y="308"/>
                        </a:lnTo>
                        <a:lnTo>
                          <a:pt x="0" y="329"/>
                        </a:lnTo>
                        <a:lnTo>
                          <a:pt x="3" y="347"/>
                        </a:lnTo>
                        <a:lnTo>
                          <a:pt x="8" y="361"/>
                        </a:lnTo>
                        <a:lnTo>
                          <a:pt x="17" y="381"/>
                        </a:lnTo>
                        <a:lnTo>
                          <a:pt x="27" y="390"/>
                        </a:lnTo>
                        <a:lnTo>
                          <a:pt x="41" y="399"/>
                        </a:lnTo>
                        <a:lnTo>
                          <a:pt x="53" y="402"/>
                        </a:lnTo>
                        <a:lnTo>
                          <a:pt x="69" y="407"/>
                        </a:lnTo>
                        <a:lnTo>
                          <a:pt x="79" y="407"/>
                        </a:lnTo>
                        <a:lnTo>
                          <a:pt x="93" y="407"/>
                        </a:lnTo>
                        <a:lnTo>
                          <a:pt x="109" y="405"/>
                        </a:lnTo>
                        <a:lnTo>
                          <a:pt x="126" y="402"/>
                        </a:lnTo>
                        <a:lnTo>
                          <a:pt x="142" y="401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flipH="1">
                    <a:off x="5948280" y="5759280"/>
                    <a:ext cx="404640" cy="15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201">
                        <a:moveTo>
                          <a:pt x="0" y="171"/>
                        </a:moveTo>
                        <a:lnTo>
                          <a:pt x="255" y="0"/>
                        </a:lnTo>
                        <a:lnTo>
                          <a:pt x="255" y="26"/>
                        </a:lnTo>
                        <a:lnTo>
                          <a:pt x="2" y="201"/>
                        </a:lnTo>
                        <a:lnTo>
                          <a:pt x="0" y="171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1" name=""/>
                <p:cNvSpPr/>
                <p:nvPr/>
              </p:nvSpPr>
              <p:spPr>
                <a:xfrm flipH="1">
                  <a:off x="5257800" y="5951160"/>
                  <a:ext cx="3240000" cy="297000"/>
                </a:xfrm>
                <a:custGeom>
                  <a:avLst/>
                  <a:gdLst/>
                  <a:ahLst/>
                  <a:rect l="l" t="t" r="r" b="b"/>
                  <a:pathLst>
                    <a:path w="2041" h="372">
                      <a:moveTo>
                        <a:pt x="382" y="0"/>
                      </a:moveTo>
                      <a:lnTo>
                        <a:pt x="366" y="7"/>
                      </a:lnTo>
                      <a:lnTo>
                        <a:pt x="353" y="13"/>
                      </a:lnTo>
                      <a:lnTo>
                        <a:pt x="342" y="24"/>
                      </a:lnTo>
                      <a:lnTo>
                        <a:pt x="336" y="33"/>
                      </a:lnTo>
                      <a:lnTo>
                        <a:pt x="332" y="48"/>
                      </a:lnTo>
                      <a:lnTo>
                        <a:pt x="315" y="50"/>
                      </a:lnTo>
                      <a:lnTo>
                        <a:pt x="304" y="54"/>
                      </a:lnTo>
                      <a:lnTo>
                        <a:pt x="295" y="62"/>
                      </a:lnTo>
                      <a:lnTo>
                        <a:pt x="283" y="71"/>
                      </a:lnTo>
                      <a:lnTo>
                        <a:pt x="269" y="71"/>
                      </a:lnTo>
                      <a:lnTo>
                        <a:pt x="252" y="86"/>
                      </a:lnTo>
                      <a:lnTo>
                        <a:pt x="232" y="73"/>
                      </a:lnTo>
                      <a:lnTo>
                        <a:pt x="243" y="105"/>
                      </a:lnTo>
                      <a:lnTo>
                        <a:pt x="224" y="105"/>
                      </a:lnTo>
                      <a:lnTo>
                        <a:pt x="200" y="106"/>
                      </a:lnTo>
                      <a:lnTo>
                        <a:pt x="182" y="97"/>
                      </a:lnTo>
                      <a:lnTo>
                        <a:pt x="160" y="117"/>
                      </a:lnTo>
                      <a:lnTo>
                        <a:pt x="141" y="105"/>
                      </a:lnTo>
                      <a:lnTo>
                        <a:pt x="136" y="106"/>
                      </a:lnTo>
                      <a:lnTo>
                        <a:pt x="131" y="114"/>
                      </a:lnTo>
                      <a:lnTo>
                        <a:pt x="124" y="123"/>
                      </a:lnTo>
                      <a:lnTo>
                        <a:pt x="120" y="135"/>
                      </a:lnTo>
                      <a:lnTo>
                        <a:pt x="113" y="144"/>
                      </a:lnTo>
                      <a:lnTo>
                        <a:pt x="107" y="150"/>
                      </a:lnTo>
                      <a:lnTo>
                        <a:pt x="95" y="150"/>
                      </a:lnTo>
                      <a:lnTo>
                        <a:pt x="81" y="150"/>
                      </a:lnTo>
                      <a:lnTo>
                        <a:pt x="74" y="159"/>
                      </a:lnTo>
                      <a:lnTo>
                        <a:pt x="65" y="170"/>
                      </a:lnTo>
                      <a:lnTo>
                        <a:pt x="56" y="170"/>
                      </a:lnTo>
                      <a:lnTo>
                        <a:pt x="44" y="172"/>
                      </a:lnTo>
                      <a:lnTo>
                        <a:pt x="28" y="172"/>
                      </a:lnTo>
                      <a:lnTo>
                        <a:pt x="13" y="182"/>
                      </a:lnTo>
                      <a:lnTo>
                        <a:pt x="0" y="208"/>
                      </a:lnTo>
                      <a:lnTo>
                        <a:pt x="11" y="207"/>
                      </a:lnTo>
                      <a:lnTo>
                        <a:pt x="28" y="197"/>
                      </a:lnTo>
                      <a:lnTo>
                        <a:pt x="45" y="196"/>
                      </a:lnTo>
                      <a:lnTo>
                        <a:pt x="57" y="197"/>
                      </a:lnTo>
                      <a:lnTo>
                        <a:pt x="69" y="208"/>
                      </a:lnTo>
                      <a:lnTo>
                        <a:pt x="82" y="213"/>
                      </a:lnTo>
                      <a:lnTo>
                        <a:pt x="95" y="207"/>
                      </a:lnTo>
                      <a:lnTo>
                        <a:pt x="108" y="197"/>
                      </a:lnTo>
                      <a:lnTo>
                        <a:pt x="121" y="191"/>
                      </a:lnTo>
                      <a:lnTo>
                        <a:pt x="133" y="191"/>
                      </a:lnTo>
                      <a:lnTo>
                        <a:pt x="141" y="207"/>
                      </a:lnTo>
                      <a:lnTo>
                        <a:pt x="149" y="219"/>
                      </a:lnTo>
                      <a:lnTo>
                        <a:pt x="163" y="219"/>
                      </a:lnTo>
                      <a:lnTo>
                        <a:pt x="175" y="214"/>
                      </a:lnTo>
                      <a:lnTo>
                        <a:pt x="190" y="207"/>
                      </a:lnTo>
                      <a:lnTo>
                        <a:pt x="203" y="201"/>
                      </a:lnTo>
                      <a:lnTo>
                        <a:pt x="216" y="213"/>
                      </a:lnTo>
                      <a:lnTo>
                        <a:pt x="228" y="225"/>
                      </a:lnTo>
                      <a:lnTo>
                        <a:pt x="241" y="231"/>
                      </a:lnTo>
                      <a:lnTo>
                        <a:pt x="254" y="236"/>
                      </a:lnTo>
                      <a:lnTo>
                        <a:pt x="271" y="239"/>
                      </a:lnTo>
                      <a:lnTo>
                        <a:pt x="288" y="242"/>
                      </a:lnTo>
                      <a:lnTo>
                        <a:pt x="304" y="239"/>
                      </a:lnTo>
                      <a:lnTo>
                        <a:pt x="323" y="232"/>
                      </a:lnTo>
                      <a:lnTo>
                        <a:pt x="315" y="210"/>
                      </a:lnTo>
                      <a:lnTo>
                        <a:pt x="317" y="196"/>
                      </a:lnTo>
                      <a:lnTo>
                        <a:pt x="325" y="188"/>
                      </a:lnTo>
                      <a:lnTo>
                        <a:pt x="327" y="204"/>
                      </a:lnTo>
                      <a:lnTo>
                        <a:pt x="338" y="219"/>
                      </a:lnTo>
                      <a:lnTo>
                        <a:pt x="349" y="225"/>
                      </a:lnTo>
                      <a:lnTo>
                        <a:pt x="360" y="231"/>
                      </a:lnTo>
                      <a:lnTo>
                        <a:pt x="374" y="239"/>
                      </a:lnTo>
                      <a:lnTo>
                        <a:pt x="388" y="243"/>
                      </a:lnTo>
                      <a:lnTo>
                        <a:pt x="408" y="248"/>
                      </a:lnTo>
                      <a:lnTo>
                        <a:pt x="421" y="245"/>
                      </a:lnTo>
                      <a:lnTo>
                        <a:pt x="437" y="248"/>
                      </a:lnTo>
                      <a:lnTo>
                        <a:pt x="462" y="257"/>
                      </a:lnTo>
                      <a:lnTo>
                        <a:pt x="454" y="267"/>
                      </a:lnTo>
                      <a:lnTo>
                        <a:pt x="442" y="280"/>
                      </a:lnTo>
                      <a:lnTo>
                        <a:pt x="420" y="301"/>
                      </a:lnTo>
                      <a:lnTo>
                        <a:pt x="434" y="302"/>
                      </a:lnTo>
                      <a:lnTo>
                        <a:pt x="446" y="306"/>
                      </a:lnTo>
                      <a:lnTo>
                        <a:pt x="464" y="312"/>
                      </a:lnTo>
                      <a:lnTo>
                        <a:pt x="484" y="315"/>
                      </a:lnTo>
                      <a:lnTo>
                        <a:pt x="494" y="313"/>
                      </a:lnTo>
                      <a:lnTo>
                        <a:pt x="503" y="302"/>
                      </a:lnTo>
                      <a:lnTo>
                        <a:pt x="514" y="296"/>
                      </a:lnTo>
                      <a:lnTo>
                        <a:pt x="530" y="295"/>
                      </a:lnTo>
                      <a:lnTo>
                        <a:pt x="552" y="293"/>
                      </a:lnTo>
                      <a:lnTo>
                        <a:pt x="566" y="280"/>
                      </a:lnTo>
                      <a:lnTo>
                        <a:pt x="587" y="269"/>
                      </a:lnTo>
                      <a:lnTo>
                        <a:pt x="604" y="261"/>
                      </a:lnTo>
                      <a:lnTo>
                        <a:pt x="615" y="263"/>
                      </a:lnTo>
                      <a:lnTo>
                        <a:pt x="657" y="266"/>
                      </a:lnTo>
                      <a:lnTo>
                        <a:pt x="689" y="272"/>
                      </a:lnTo>
                      <a:lnTo>
                        <a:pt x="710" y="272"/>
                      </a:lnTo>
                      <a:lnTo>
                        <a:pt x="727" y="275"/>
                      </a:lnTo>
                      <a:lnTo>
                        <a:pt x="756" y="299"/>
                      </a:lnTo>
                      <a:lnTo>
                        <a:pt x="770" y="299"/>
                      </a:lnTo>
                      <a:lnTo>
                        <a:pt x="785" y="293"/>
                      </a:lnTo>
                      <a:lnTo>
                        <a:pt x="802" y="284"/>
                      </a:lnTo>
                      <a:lnTo>
                        <a:pt x="816" y="280"/>
                      </a:lnTo>
                      <a:lnTo>
                        <a:pt x="865" y="272"/>
                      </a:lnTo>
                      <a:lnTo>
                        <a:pt x="898" y="269"/>
                      </a:lnTo>
                      <a:lnTo>
                        <a:pt x="919" y="266"/>
                      </a:lnTo>
                      <a:lnTo>
                        <a:pt x="936" y="263"/>
                      </a:lnTo>
                      <a:lnTo>
                        <a:pt x="953" y="260"/>
                      </a:lnTo>
                      <a:lnTo>
                        <a:pt x="974" y="254"/>
                      </a:lnTo>
                      <a:lnTo>
                        <a:pt x="987" y="248"/>
                      </a:lnTo>
                      <a:lnTo>
                        <a:pt x="1009" y="237"/>
                      </a:lnTo>
                      <a:lnTo>
                        <a:pt x="1020" y="249"/>
                      </a:lnTo>
                      <a:lnTo>
                        <a:pt x="1027" y="263"/>
                      </a:lnTo>
                      <a:lnTo>
                        <a:pt x="1019" y="278"/>
                      </a:lnTo>
                      <a:lnTo>
                        <a:pt x="1004" y="287"/>
                      </a:lnTo>
                      <a:lnTo>
                        <a:pt x="1022" y="287"/>
                      </a:lnTo>
                      <a:lnTo>
                        <a:pt x="1013" y="299"/>
                      </a:lnTo>
                      <a:lnTo>
                        <a:pt x="999" y="312"/>
                      </a:lnTo>
                      <a:lnTo>
                        <a:pt x="979" y="327"/>
                      </a:lnTo>
                      <a:lnTo>
                        <a:pt x="961" y="337"/>
                      </a:lnTo>
                      <a:lnTo>
                        <a:pt x="983" y="333"/>
                      </a:lnTo>
                      <a:lnTo>
                        <a:pt x="1003" y="327"/>
                      </a:lnTo>
                      <a:lnTo>
                        <a:pt x="1022" y="318"/>
                      </a:lnTo>
                      <a:lnTo>
                        <a:pt x="1035" y="309"/>
                      </a:lnTo>
                      <a:lnTo>
                        <a:pt x="1042" y="306"/>
                      </a:lnTo>
                      <a:lnTo>
                        <a:pt x="1052" y="302"/>
                      </a:lnTo>
                      <a:lnTo>
                        <a:pt x="1065" y="302"/>
                      </a:lnTo>
                      <a:lnTo>
                        <a:pt x="1081" y="306"/>
                      </a:lnTo>
                      <a:lnTo>
                        <a:pt x="1095" y="312"/>
                      </a:lnTo>
                      <a:lnTo>
                        <a:pt x="1108" y="313"/>
                      </a:lnTo>
                      <a:lnTo>
                        <a:pt x="1125" y="312"/>
                      </a:lnTo>
                      <a:lnTo>
                        <a:pt x="1112" y="333"/>
                      </a:lnTo>
                      <a:lnTo>
                        <a:pt x="1098" y="348"/>
                      </a:lnTo>
                      <a:lnTo>
                        <a:pt x="1082" y="359"/>
                      </a:lnTo>
                      <a:lnTo>
                        <a:pt x="1100" y="354"/>
                      </a:lnTo>
                      <a:lnTo>
                        <a:pt x="1117" y="350"/>
                      </a:lnTo>
                      <a:lnTo>
                        <a:pt x="1135" y="347"/>
                      </a:lnTo>
                      <a:lnTo>
                        <a:pt x="1150" y="339"/>
                      </a:lnTo>
                      <a:lnTo>
                        <a:pt x="1169" y="336"/>
                      </a:lnTo>
                      <a:lnTo>
                        <a:pt x="1191" y="331"/>
                      </a:lnTo>
                      <a:lnTo>
                        <a:pt x="1212" y="331"/>
                      </a:lnTo>
                      <a:lnTo>
                        <a:pt x="1228" y="324"/>
                      </a:lnTo>
                      <a:lnTo>
                        <a:pt x="1232" y="318"/>
                      </a:lnTo>
                      <a:lnTo>
                        <a:pt x="1237" y="312"/>
                      </a:lnTo>
                      <a:lnTo>
                        <a:pt x="1249" y="312"/>
                      </a:lnTo>
                      <a:lnTo>
                        <a:pt x="1269" y="319"/>
                      </a:lnTo>
                      <a:lnTo>
                        <a:pt x="1294" y="324"/>
                      </a:lnTo>
                      <a:lnTo>
                        <a:pt x="1317" y="331"/>
                      </a:lnTo>
                      <a:lnTo>
                        <a:pt x="1330" y="336"/>
                      </a:lnTo>
                      <a:lnTo>
                        <a:pt x="1352" y="336"/>
                      </a:lnTo>
                      <a:lnTo>
                        <a:pt x="1377" y="337"/>
                      </a:lnTo>
                      <a:lnTo>
                        <a:pt x="1397" y="344"/>
                      </a:lnTo>
                      <a:lnTo>
                        <a:pt x="1420" y="354"/>
                      </a:lnTo>
                      <a:lnTo>
                        <a:pt x="1440" y="360"/>
                      </a:lnTo>
                      <a:lnTo>
                        <a:pt x="1457" y="365"/>
                      </a:lnTo>
                      <a:lnTo>
                        <a:pt x="1474" y="360"/>
                      </a:lnTo>
                      <a:lnTo>
                        <a:pt x="1501" y="348"/>
                      </a:lnTo>
                      <a:lnTo>
                        <a:pt x="1523" y="354"/>
                      </a:lnTo>
                      <a:lnTo>
                        <a:pt x="1543" y="354"/>
                      </a:lnTo>
                      <a:lnTo>
                        <a:pt x="1565" y="354"/>
                      </a:lnTo>
                      <a:lnTo>
                        <a:pt x="1586" y="353"/>
                      </a:lnTo>
                      <a:lnTo>
                        <a:pt x="1615" y="342"/>
                      </a:lnTo>
                      <a:lnTo>
                        <a:pt x="1628" y="342"/>
                      </a:lnTo>
                      <a:lnTo>
                        <a:pt x="1644" y="339"/>
                      </a:lnTo>
                      <a:lnTo>
                        <a:pt x="1674" y="347"/>
                      </a:lnTo>
                      <a:lnTo>
                        <a:pt x="1689" y="350"/>
                      </a:lnTo>
                      <a:lnTo>
                        <a:pt x="1702" y="348"/>
                      </a:lnTo>
                      <a:lnTo>
                        <a:pt x="1719" y="344"/>
                      </a:lnTo>
                      <a:lnTo>
                        <a:pt x="1736" y="342"/>
                      </a:lnTo>
                      <a:lnTo>
                        <a:pt x="1748" y="342"/>
                      </a:lnTo>
                      <a:lnTo>
                        <a:pt x="1754" y="347"/>
                      </a:lnTo>
                      <a:lnTo>
                        <a:pt x="1754" y="360"/>
                      </a:lnTo>
                      <a:lnTo>
                        <a:pt x="1760" y="365"/>
                      </a:lnTo>
                      <a:lnTo>
                        <a:pt x="1771" y="365"/>
                      </a:lnTo>
                      <a:lnTo>
                        <a:pt x="1781" y="360"/>
                      </a:lnTo>
                      <a:lnTo>
                        <a:pt x="1791" y="348"/>
                      </a:lnTo>
                      <a:lnTo>
                        <a:pt x="1797" y="336"/>
                      </a:lnTo>
                      <a:lnTo>
                        <a:pt x="1804" y="330"/>
                      </a:lnTo>
                      <a:lnTo>
                        <a:pt x="1821" y="330"/>
                      </a:lnTo>
                      <a:lnTo>
                        <a:pt x="1833" y="330"/>
                      </a:lnTo>
                      <a:lnTo>
                        <a:pt x="1849" y="342"/>
                      </a:lnTo>
                      <a:lnTo>
                        <a:pt x="1862" y="350"/>
                      </a:lnTo>
                      <a:lnTo>
                        <a:pt x="1877" y="360"/>
                      </a:lnTo>
                      <a:lnTo>
                        <a:pt x="1887" y="362"/>
                      </a:lnTo>
                      <a:lnTo>
                        <a:pt x="1896" y="365"/>
                      </a:lnTo>
                      <a:lnTo>
                        <a:pt x="1907" y="365"/>
                      </a:lnTo>
                      <a:lnTo>
                        <a:pt x="1924" y="360"/>
                      </a:lnTo>
                      <a:lnTo>
                        <a:pt x="1981" y="372"/>
                      </a:lnTo>
                      <a:lnTo>
                        <a:pt x="1964" y="360"/>
                      </a:lnTo>
                      <a:lnTo>
                        <a:pt x="1954" y="354"/>
                      </a:lnTo>
                      <a:lnTo>
                        <a:pt x="1949" y="342"/>
                      </a:lnTo>
                      <a:lnTo>
                        <a:pt x="1954" y="333"/>
                      </a:lnTo>
                      <a:lnTo>
                        <a:pt x="1974" y="325"/>
                      </a:lnTo>
                      <a:lnTo>
                        <a:pt x="1988" y="319"/>
                      </a:lnTo>
                      <a:lnTo>
                        <a:pt x="2005" y="312"/>
                      </a:lnTo>
                      <a:lnTo>
                        <a:pt x="2018" y="299"/>
                      </a:lnTo>
                      <a:lnTo>
                        <a:pt x="2041" y="284"/>
                      </a:lnTo>
                      <a:lnTo>
                        <a:pt x="2008" y="284"/>
                      </a:lnTo>
                      <a:lnTo>
                        <a:pt x="1987" y="283"/>
                      </a:lnTo>
                      <a:lnTo>
                        <a:pt x="1966" y="278"/>
                      </a:lnTo>
                      <a:lnTo>
                        <a:pt x="1949" y="275"/>
                      </a:lnTo>
                      <a:lnTo>
                        <a:pt x="1938" y="275"/>
                      </a:lnTo>
                      <a:lnTo>
                        <a:pt x="1928" y="278"/>
                      </a:lnTo>
                      <a:lnTo>
                        <a:pt x="1919" y="280"/>
                      </a:lnTo>
                      <a:lnTo>
                        <a:pt x="1906" y="287"/>
                      </a:lnTo>
                      <a:lnTo>
                        <a:pt x="1894" y="293"/>
                      </a:lnTo>
                      <a:lnTo>
                        <a:pt x="1911" y="301"/>
                      </a:lnTo>
                      <a:lnTo>
                        <a:pt x="1924" y="312"/>
                      </a:lnTo>
                      <a:lnTo>
                        <a:pt x="1932" y="324"/>
                      </a:lnTo>
                      <a:lnTo>
                        <a:pt x="1936" y="336"/>
                      </a:lnTo>
                      <a:lnTo>
                        <a:pt x="1932" y="348"/>
                      </a:lnTo>
                      <a:lnTo>
                        <a:pt x="1920" y="344"/>
                      </a:lnTo>
                      <a:lnTo>
                        <a:pt x="1910" y="339"/>
                      </a:lnTo>
                      <a:lnTo>
                        <a:pt x="1903" y="330"/>
                      </a:lnTo>
                      <a:lnTo>
                        <a:pt x="1890" y="319"/>
                      </a:lnTo>
                      <a:lnTo>
                        <a:pt x="1874" y="315"/>
                      </a:lnTo>
                      <a:lnTo>
                        <a:pt x="1860" y="312"/>
                      </a:lnTo>
                      <a:lnTo>
                        <a:pt x="1841" y="315"/>
                      </a:lnTo>
                      <a:lnTo>
                        <a:pt x="1828" y="313"/>
                      </a:lnTo>
                      <a:lnTo>
                        <a:pt x="1816" y="312"/>
                      </a:lnTo>
                      <a:lnTo>
                        <a:pt x="1804" y="306"/>
                      </a:lnTo>
                      <a:lnTo>
                        <a:pt x="1790" y="296"/>
                      </a:lnTo>
                      <a:lnTo>
                        <a:pt x="1778" y="287"/>
                      </a:lnTo>
                      <a:lnTo>
                        <a:pt x="1767" y="280"/>
                      </a:lnTo>
                      <a:lnTo>
                        <a:pt x="1756" y="280"/>
                      </a:lnTo>
                      <a:lnTo>
                        <a:pt x="1745" y="287"/>
                      </a:lnTo>
                      <a:lnTo>
                        <a:pt x="1733" y="293"/>
                      </a:lnTo>
                      <a:lnTo>
                        <a:pt x="1720" y="293"/>
                      </a:lnTo>
                      <a:lnTo>
                        <a:pt x="1703" y="293"/>
                      </a:lnTo>
                      <a:lnTo>
                        <a:pt x="1689" y="289"/>
                      </a:lnTo>
                      <a:lnTo>
                        <a:pt x="1675" y="284"/>
                      </a:lnTo>
                      <a:lnTo>
                        <a:pt x="1662" y="283"/>
                      </a:lnTo>
                      <a:lnTo>
                        <a:pt x="1652" y="284"/>
                      </a:lnTo>
                      <a:lnTo>
                        <a:pt x="1636" y="287"/>
                      </a:lnTo>
                      <a:lnTo>
                        <a:pt x="1623" y="290"/>
                      </a:lnTo>
                      <a:lnTo>
                        <a:pt x="1607" y="287"/>
                      </a:lnTo>
                      <a:lnTo>
                        <a:pt x="1589" y="284"/>
                      </a:lnTo>
                      <a:lnTo>
                        <a:pt x="1569" y="283"/>
                      </a:lnTo>
                      <a:lnTo>
                        <a:pt x="1549" y="280"/>
                      </a:lnTo>
                      <a:lnTo>
                        <a:pt x="1535" y="274"/>
                      </a:lnTo>
                      <a:lnTo>
                        <a:pt x="1521" y="266"/>
                      </a:lnTo>
                      <a:lnTo>
                        <a:pt x="1509" y="257"/>
                      </a:lnTo>
                      <a:lnTo>
                        <a:pt x="1499" y="254"/>
                      </a:lnTo>
                      <a:lnTo>
                        <a:pt x="1490" y="254"/>
                      </a:lnTo>
                      <a:lnTo>
                        <a:pt x="1480" y="255"/>
                      </a:lnTo>
                      <a:lnTo>
                        <a:pt x="1453" y="261"/>
                      </a:lnTo>
                      <a:lnTo>
                        <a:pt x="1483" y="266"/>
                      </a:lnTo>
                      <a:lnTo>
                        <a:pt x="1475" y="280"/>
                      </a:lnTo>
                      <a:lnTo>
                        <a:pt x="1465" y="295"/>
                      </a:lnTo>
                      <a:lnTo>
                        <a:pt x="1454" y="296"/>
                      </a:lnTo>
                      <a:lnTo>
                        <a:pt x="1313" y="263"/>
                      </a:lnTo>
                      <a:lnTo>
                        <a:pt x="1304" y="257"/>
                      </a:lnTo>
                      <a:lnTo>
                        <a:pt x="1330" y="243"/>
                      </a:lnTo>
                      <a:lnTo>
                        <a:pt x="1312" y="237"/>
                      </a:lnTo>
                      <a:lnTo>
                        <a:pt x="1300" y="236"/>
                      </a:lnTo>
                      <a:lnTo>
                        <a:pt x="1291" y="225"/>
                      </a:lnTo>
                      <a:lnTo>
                        <a:pt x="1280" y="219"/>
                      </a:lnTo>
                      <a:lnTo>
                        <a:pt x="1266" y="223"/>
                      </a:lnTo>
                      <a:lnTo>
                        <a:pt x="1252" y="226"/>
                      </a:lnTo>
                      <a:lnTo>
                        <a:pt x="1239" y="236"/>
                      </a:lnTo>
                      <a:lnTo>
                        <a:pt x="1228" y="225"/>
                      </a:lnTo>
                      <a:lnTo>
                        <a:pt x="1215" y="208"/>
                      </a:lnTo>
                      <a:lnTo>
                        <a:pt x="1202" y="196"/>
                      </a:lnTo>
                      <a:lnTo>
                        <a:pt x="1189" y="188"/>
                      </a:lnTo>
                      <a:lnTo>
                        <a:pt x="1176" y="182"/>
                      </a:lnTo>
                      <a:lnTo>
                        <a:pt x="1162" y="179"/>
                      </a:lnTo>
                      <a:lnTo>
                        <a:pt x="1139" y="182"/>
                      </a:lnTo>
                      <a:lnTo>
                        <a:pt x="1121" y="185"/>
                      </a:lnTo>
                      <a:lnTo>
                        <a:pt x="1103" y="190"/>
                      </a:lnTo>
                      <a:lnTo>
                        <a:pt x="1082" y="194"/>
                      </a:lnTo>
                      <a:lnTo>
                        <a:pt x="1061" y="201"/>
                      </a:lnTo>
                      <a:lnTo>
                        <a:pt x="1044" y="204"/>
                      </a:lnTo>
                      <a:lnTo>
                        <a:pt x="1029" y="214"/>
                      </a:lnTo>
                      <a:lnTo>
                        <a:pt x="1013" y="220"/>
                      </a:lnTo>
                      <a:lnTo>
                        <a:pt x="998" y="220"/>
                      </a:lnTo>
                      <a:lnTo>
                        <a:pt x="982" y="226"/>
                      </a:lnTo>
                      <a:lnTo>
                        <a:pt x="966" y="232"/>
                      </a:lnTo>
                      <a:lnTo>
                        <a:pt x="949" y="239"/>
                      </a:lnTo>
                      <a:lnTo>
                        <a:pt x="932" y="239"/>
                      </a:lnTo>
                      <a:lnTo>
                        <a:pt x="915" y="239"/>
                      </a:lnTo>
                      <a:lnTo>
                        <a:pt x="902" y="237"/>
                      </a:lnTo>
                      <a:lnTo>
                        <a:pt x="891" y="243"/>
                      </a:lnTo>
                      <a:lnTo>
                        <a:pt x="875" y="251"/>
                      </a:lnTo>
                      <a:lnTo>
                        <a:pt x="858" y="251"/>
                      </a:lnTo>
                      <a:lnTo>
                        <a:pt x="838" y="251"/>
                      </a:lnTo>
                      <a:lnTo>
                        <a:pt x="821" y="251"/>
                      </a:lnTo>
                      <a:lnTo>
                        <a:pt x="799" y="251"/>
                      </a:lnTo>
                      <a:lnTo>
                        <a:pt x="760" y="261"/>
                      </a:lnTo>
                      <a:lnTo>
                        <a:pt x="751" y="255"/>
                      </a:lnTo>
                      <a:lnTo>
                        <a:pt x="743" y="245"/>
                      </a:lnTo>
                      <a:lnTo>
                        <a:pt x="731" y="239"/>
                      </a:lnTo>
                      <a:lnTo>
                        <a:pt x="721" y="237"/>
                      </a:lnTo>
                      <a:lnTo>
                        <a:pt x="706" y="239"/>
                      </a:lnTo>
                      <a:lnTo>
                        <a:pt x="689" y="245"/>
                      </a:lnTo>
                      <a:lnTo>
                        <a:pt x="661" y="249"/>
                      </a:lnTo>
                      <a:lnTo>
                        <a:pt x="649" y="242"/>
                      </a:lnTo>
                      <a:lnTo>
                        <a:pt x="641" y="232"/>
                      </a:lnTo>
                      <a:lnTo>
                        <a:pt x="631" y="229"/>
                      </a:lnTo>
                      <a:lnTo>
                        <a:pt x="619" y="226"/>
                      </a:lnTo>
                      <a:lnTo>
                        <a:pt x="608" y="220"/>
                      </a:lnTo>
                      <a:lnTo>
                        <a:pt x="604" y="208"/>
                      </a:lnTo>
                      <a:lnTo>
                        <a:pt x="595" y="190"/>
                      </a:lnTo>
                      <a:lnTo>
                        <a:pt x="586" y="184"/>
                      </a:lnTo>
                      <a:lnTo>
                        <a:pt x="573" y="179"/>
                      </a:lnTo>
                      <a:lnTo>
                        <a:pt x="561" y="179"/>
                      </a:lnTo>
                      <a:lnTo>
                        <a:pt x="556" y="188"/>
                      </a:lnTo>
                      <a:lnTo>
                        <a:pt x="548" y="208"/>
                      </a:lnTo>
                      <a:lnTo>
                        <a:pt x="540" y="204"/>
                      </a:lnTo>
                      <a:lnTo>
                        <a:pt x="530" y="202"/>
                      </a:lnTo>
                      <a:lnTo>
                        <a:pt x="519" y="204"/>
                      </a:lnTo>
                      <a:lnTo>
                        <a:pt x="508" y="213"/>
                      </a:lnTo>
                      <a:lnTo>
                        <a:pt x="494" y="219"/>
                      </a:lnTo>
                      <a:lnTo>
                        <a:pt x="477" y="219"/>
                      </a:lnTo>
                      <a:lnTo>
                        <a:pt x="490" y="201"/>
                      </a:lnTo>
                      <a:lnTo>
                        <a:pt x="495" y="188"/>
                      </a:lnTo>
                      <a:lnTo>
                        <a:pt x="484" y="191"/>
                      </a:lnTo>
                      <a:lnTo>
                        <a:pt x="461" y="201"/>
                      </a:lnTo>
                      <a:lnTo>
                        <a:pt x="442" y="197"/>
                      </a:lnTo>
                      <a:lnTo>
                        <a:pt x="441" y="188"/>
                      </a:lnTo>
                      <a:lnTo>
                        <a:pt x="438" y="178"/>
                      </a:lnTo>
                      <a:lnTo>
                        <a:pt x="434" y="170"/>
                      </a:lnTo>
                      <a:lnTo>
                        <a:pt x="423" y="164"/>
                      </a:lnTo>
                      <a:lnTo>
                        <a:pt x="411" y="164"/>
                      </a:lnTo>
                      <a:lnTo>
                        <a:pt x="396" y="166"/>
                      </a:lnTo>
                      <a:lnTo>
                        <a:pt x="383" y="170"/>
                      </a:lnTo>
                      <a:lnTo>
                        <a:pt x="369" y="164"/>
                      </a:lnTo>
                      <a:lnTo>
                        <a:pt x="353" y="153"/>
                      </a:lnTo>
                      <a:lnTo>
                        <a:pt x="342" y="141"/>
                      </a:lnTo>
                      <a:lnTo>
                        <a:pt x="354" y="117"/>
                      </a:lnTo>
                      <a:lnTo>
                        <a:pt x="366" y="108"/>
                      </a:lnTo>
                      <a:lnTo>
                        <a:pt x="378" y="97"/>
                      </a:lnTo>
                      <a:lnTo>
                        <a:pt x="387" y="91"/>
                      </a:lnTo>
                      <a:lnTo>
                        <a:pt x="394" y="79"/>
                      </a:lnTo>
                      <a:lnTo>
                        <a:pt x="399" y="67"/>
                      </a:lnTo>
                      <a:lnTo>
                        <a:pt x="401" y="54"/>
                      </a:lnTo>
                      <a:lnTo>
                        <a:pt x="404" y="41"/>
                      </a:lnTo>
                      <a:lnTo>
                        <a:pt x="382" y="0"/>
                      </a:lnTo>
                      <a:close/>
                    </a:path>
                  </a:pathLst>
                </a:custGeom>
                <a:solidFill>
                  <a:srgbClr val="0000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 flipH="1">
                <a:off x="7848000" y="2666880"/>
                <a:ext cx="690840" cy="158400"/>
              </a:xfrm>
              <a:custGeom>
                <a:avLst/>
                <a:gdLst/>
                <a:ahLst/>
                <a:rect l="l" t="t" r="r" b="b"/>
                <a:pathLst>
                  <a:path w="435" h="199">
                    <a:moveTo>
                      <a:pt x="0" y="84"/>
                    </a:moveTo>
                    <a:lnTo>
                      <a:pt x="24" y="199"/>
                    </a:lnTo>
                    <a:lnTo>
                      <a:pt x="61" y="163"/>
                    </a:lnTo>
                    <a:lnTo>
                      <a:pt x="82" y="149"/>
                    </a:lnTo>
                    <a:lnTo>
                      <a:pt x="104" y="131"/>
                    </a:lnTo>
                    <a:lnTo>
                      <a:pt x="115" y="120"/>
                    </a:lnTo>
                    <a:lnTo>
                      <a:pt x="133" y="119"/>
                    </a:lnTo>
                    <a:lnTo>
                      <a:pt x="145" y="126"/>
                    </a:lnTo>
                    <a:lnTo>
                      <a:pt x="150" y="144"/>
                    </a:lnTo>
                    <a:lnTo>
                      <a:pt x="162" y="163"/>
                    </a:lnTo>
                    <a:lnTo>
                      <a:pt x="183" y="169"/>
                    </a:lnTo>
                    <a:lnTo>
                      <a:pt x="218" y="166"/>
                    </a:lnTo>
                    <a:lnTo>
                      <a:pt x="274" y="143"/>
                    </a:lnTo>
                    <a:lnTo>
                      <a:pt x="351" y="113"/>
                    </a:lnTo>
                    <a:lnTo>
                      <a:pt x="435" y="100"/>
                    </a:lnTo>
                    <a:lnTo>
                      <a:pt x="355" y="84"/>
                    </a:lnTo>
                    <a:lnTo>
                      <a:pt x="328" y="84"/>
                    </a:lnTo>
                    <a:lnTo>
                      <a:pt x="282" y="94"/>
                    </a:lnTo>
                    <a:lnTo>
                      <a:pt x="253" y="94"/>
                    </a:lnTo>
                    <a:lnTo>
                      <a:pt x="219" y="94"/>
                    </a:lnTo>
                    <a:lnTo>
                      <a:pt x="198" y="82"/>
                    </a:lnTo>
                    <a:lnTo>
                      <a:pt x="185" y="59"/>
                    </a:lnTo>
                    <a:lnTo>
                      <a:pt x="173" y="35"/>
                    </a:lnTo>
                    <a:lnTo>
                      <a:pt x="162" y="15"/>
                    </a:lnTo>
                    <a:lnTo>
                      <a:pt x="138" y="0"/>
                    </a:lnTo>
                    <a:lnTo>
                      <a:pt x="116" y="0"/>
                    </a:lnTo>
                    <a:lnTo>
                      <a:pt x="65" y="30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a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6291000" y="3312720"/>
              <a:ext cx="463680" cy="370080"/>
            </a:xfrm>
            <a:custGeom>
              <a:avLst/>
              <a:gdLst/>
              <a:ahLst/>
              <a:rect l="l" t="t" r="r" b="b"/>
              <a:pathLst>
                <a:path w="586" h="467">
                  <a:moveTo>
                    <a:pt x="577" y="407"/>
                  </a:moveTo>
                  <a:lnTo>
                    <a:pt x="582" y="393"/>
                  </a:lnTo>
                  <a:lnTo>
                    <a:pt x="586" y="376"/>
                  </a:lnTo>
                  <a:lnTo>
                    <a:pt x="586" y="357"/>
                  </a:lnTo>
                  <a:lnTo>
                    <a:pt x="582" y="339"/>
                  </a:lnTo>
                  <a:lnTo>
                    <a:pt x="574" y="322"/>
                  </a:lnTo>
                  <a:lnTo>
                    <a:pt x="563" y="307"/>
                  </a:lnTo>
                  <a:lnTo>
                    <a:pt x="554" y="295"/>
                  </a:lnTo>
                  <a:lnTo>
                    <a:pt x="549" y="292"/>
                  </a:lnTo>
                  <a:lnTo>
                    <a:pt x="548" y="291"/>
                  </a:lnTo>
                  <a:lnTo>
                    <a:pt x="544" y="287"/>
                  </a:lnTo>
                  <a:lnTo>
                    <a:pt x="539" y="283"/>
                  </a:lnTo>
                  <a:lnTo>
                    <a:pt x="533" y="277"/>
                  </a:lnTo>
                  <a:lnTo>
                    <a:pt x="525" y="270"/>
                  </a:lnTo>
                  <a:lnTo>
                    <a:pt x="517" y="264"/>
                  </a:lnTo>
                  <a:lnTo>
                    <a:pt x="509" y="258"/>
                  </a:lnTo>
                  <a:lnTo>
                    <a:pt x="501" y="255"/>
                  </a:lnTo>
                  <a:lnTo>
                    <a:pt x="491" y="251"/>
                  </a:lnTo>
                  <a:lnTo>
                    <a:pt x="481" y="248"/>
                  </a:lnTo>
                  <a:lnTo>
                    <a:pt x="468" y="246"/>
                  </a:lnTo>
                  <a:lnTo>
                    <a:pt x="455" y="242"/>
                  </a:lnTo>
                  <a:lnTo>
                    <a:pt x="441" y="241"/>
                  </a:lnTo>
                  <a:lnTo>
                    <a:pt x="428" y="240"/>
                  </a:lnTo>
                  <a:lnTo>
                    <a:pt x="418" y="240"/>
                  </a:lnTo>
                  <a:lnTo>
                    <a:pt x="409" y="242"/>
                  </a:lnTo>
                  <a:lnTo>
                    <a:pt x="401" y="245"/>
                  </a:lnTo>
                  <a:lnTo>
                    <a:pt x="391" y="247"/>
                  </a:lnTo>
                  <a:lnTo>
                    <a:pt x="381" y="247"/>
                  </a:lnTo>
                  <a:lnTo>
                    <a:pt x="372" y="248"/>
                  </a:lnTo>
                  <a:lnTo>
                    <a:pt x="364" y="248"/>
                  </a:lnTo>
                  <a:lnTo>
                    <a:pt x="357" y="247"/>
                  </a:lnTo>
                  <a:lnTo>
                    <a:pt x="351" y="247"/>
                  </a:lnTo>
                  <a:lnTo>
                    <a:pt x="350" y="247"/>
                  </a:lnTo>
                  <a:lnTo>
                    <a:pt x="306" y="207"/>
                  </a:lnTo>
                  <a:lnTo>
                    <a:pt x="308" y="208"/>
                  </a:lnTo>
                  <a:lnTo>
                    <a:pt x="311" y="207"/>
                  </a:lnTo>
                  <a:lnTo>
                    <a:pt x="311" y="197"/>
                  </a:lnTo>
                  <a:lnTo>
                    <a:pt x="302" y="174"/>
                  </a:lnTo>
                  <a:lnTo>
                    <a:pt x="293" y="157"/>
                  </a:lnTo>
                  <a:lnTo>
                    <a:pt x="282" y="139"/>
                  </a:lnTo>
                  <a:lnTo>
                    <a:pt x="269" y="119"/>
                  </a:lnTo>
                  <a:lnTo>
                    <a:pt x="254" y="99"/>
                  </a:lnTo>
                  <a:lnTo>
                    <a:pt x="238" y="82"/>
                  </a:lnTo>
                  <a:lnTo>
                    <a:pt x="221" y="66"/>
                  </a:lnTo>
                  <a:lnTo>
                    <a:pt x="203" y="53"/>
                  </a:lnTo>
                  <a:lnTo>
                    <a:pt x="184" y="43"/>
                  </a:lnTo>
                  <a:lnTo>
                    <a:pt x="167" y="36"/>
                  </a:lnTo>
                  <a:lnTo>
                    <a:pt x="150" y="30"/>
                  </a:lnTo>
                  <a:lnTo>
                    <a:pt x="134" y="25"/>
                  </a:lnTo>
                  <a:lnTo>
                    <a:pt x="116" y="20"/>
                  </a:lnTo>
                  <a:lnTo>
                    <a:pt x="100" y="17"/>
                  </a:lnTo>
                  <a:lnTo>
                    <a:pt x="85" y="13"/>
                  </a:lnTo>
                  <a:lnTo>
                    <a:pt x="71" y="10"/>
                  </a:lnTo>
                  <a:lnTo>
                    <a:pt x="58" y="7"/>
                  </a:lnTo>
                  <a:lnTo>
                    <a:pt x="45" y="5"/>
                  </a:lnTo>
                  <a:lnTo>
                    <a:pt x="35" y="4"/>
                  </a:lnTo>
                  <a:lnTo>
                    <a:pt x="24" y="3"/>
                  </a:lnTo>
                  <a:lnTo>
                    <a:pt x="16" y="2"/>
                  </a:lnTo>
                  <a:lnTo>
                    <a:pt x="9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8" y="5"/>
                  </a:lnTo>
                  <a:lnTo>
                    <a:pt x="16" y="11"/>
                  </a:lnTo>
                  <a:lnTo>
                    <a:pt x="28" y="18"/>
                  </a:lnTo>
                  <a:lnTo>
                    <a:pt x="41" y="27"/>
                  </a:lnTo>
                  <a:lnTo>
                    <a:pt x="56" y="36"/>
                  </a:lnTo>
                  <a:lnTo>
                    <a:pt x="73" y="48"/>
                  </a:lnTo>
                  <a:lnTo>
                    <a:pt x="91" y="59"/>
                  </a:lnTo>
                  <a:lnTo>
                    <a:pt x="108" y="72"/>
                  </a:lnTo>
                  <a:lnTo>
                    <a:pt x="125" y="84"/>
                  </a:lnTo>
                  <a:lnTo>
                    <a:pt x="143" y="97"/>
                  </a:lnTo>
                  <a:lnTo>
                    <a:pt x="159" y="110"/>
                  </a:lnTo>
                  <a:lnTo>
                    <a:pt x="173" y="122"/>
                  </a:lnTo>
                  <a:lnTo>
                    <a:pt x="185" y="134"/>
                  </a:lnTo>
                  <a:lnTo>
                    <a:pt x="195" y="146"/>
                  </a:lnTo>
                  <a:lnTo>
                    <a:pt x="201" y="155"/>
                  </a:lnTo>
                  <a:lnTo>
                    <a:pt x="212" y="173"/>
                  </a:lnTo>
                  <a:lnTo>
                    <a:pt x="221" y="189"/>
                  </a:lnTo>
                  <a:lnTo>
                    <a:pt x="229" y="205"/>
                  </a:lnTo>
                  <a:lnTo>
                    <a:pt x="235" y="220"/>
                  </a:lnTo>
                  <a:lnTo>
                    <a:pt x="239" y="233"/>
                  </a:lnTo>
                  <a:lnTo>
                    <a:pt x="242" y="245"/>
                  </a:lnTo>
                  <a:lnTo>
                    <a:pt x="242" y="253"/>
                  </a:lnTo>
                  <a:lnTo>
                    <a:pt x="238" y="258"/>
                  </a:lnTo>
                  <a:lnTo>
                    <a:pt x="230" y="258"/>
                  </a:lnTo>
                  <a:lnTo>
                    <a:pt x="215" y="250"/>
                  </a:lnTo>
                  <a:lnTo>
                    <a:pt x="197" y="236"/>
                  </a:lnTo>
                  <a:lnTo>
                    <a:pt x="177" y="219"/>
                  </a:lnTo>
                  <a:lnTo>
                    <a:pt x="158" y="202"/>
                  </a:lnTo>
                  <a:lnTo>
                    <a:pt x="142" y="186"/>
                  </a:lnTo>
                  <a:lnTo>
                    <a:pt x="130" y="175"/>
                  </a:lnTo>
                  <a:lnTo>
                    <a:pt x="125" y="171"/>
                  </a:lnTo>
                  <a:lnTo>
                    <a:pt x="124" y="173"/>
                  </a:lnTo>
                  <a:lnTo>
                    <a:pt x="124" y="180"/>
                  </a:lnTo>
                  <a:lnTo>
                    <a:pt x="128" y="194"/>
                  </a:lnTo>
                  <a:lnTo>
                    <a:pt x="136" y="218"/>
                  </a:lnTo>
                  <a:lnTo>
                    <a:pt x="143" y="233"/>
                  </a:lnTo>
                  <a:lnTo>
                    <a:pt x="150" y="248"/>
                  </a:lnTo>
                  <a:lnTo>
                    <a:pt x="158" y="262"/>
                  </a:lnTo>
                  <a:lnTo>
                    <a:pt x="165" y="273"/>
                  </a:lnTo>
                  <a:lnTo>
                    <a:pt x="171" y="284"/>
                  </a:lnTo>
                  <a:lnTo>
                    <a:pt x="177" y="292"/>
                  </a:lnTo>
                  <a:lnTo>
                    <a:pt x="181" y="296"/>
                  </a:lnTo>
                  <a:lnTo>
                    <a:pt x="182" y="299"/>
                  </a:lnTo>
                  <a:lnTo>
                    <a:pt x="82" y="331"/>
                  </a:lnTo>
                  <a:lnTo>
                    <a:pt x="134" y="362"/>
                  </a:lnTo>
                  <a:lnTo>
                    <a:pt x="136" y="364"/>
                  </a:lnTo>
                  <a:lnTo>
                    <a:pt x="142" y="369"/>
                  </a:lnTo>
                  <a:lnTo>
                    <a:pt x="152" y="376"/>
                  </a:lnTo>
                  <a:lnTo>
                    <a:pt x="165" y="385"/>
                  </a:lnTo>
                  <a:lnTo>
                    <a:pt x="178" y="395"/>
                  </a:lnTo>
                  <a:lnTo>
                    <a:pt x="193" y="406"/>
                  </a:lnTo>
                  <a:lnTo>
                    <a:pt x="209" y="415"/>
                  </a:lnTo>
                  <a:lnTo>
                    <a:pt x="226" y="424"/>
                  </a:lnTo>
                  <a:lnTo>
                    <a:pt x="238" y="430"/>
                  </a:lnTo>
                  <a:lnTo>
                    <a:pt x="253" y="437"/>
                  </a:lnTo>
                  <a:lnTo>
                    <a:pt x="270" y="444"/>
                  </a:lnTo>
                  <a:lnTo>
                    <a:pt x="288" y="449"/>
                  </a:lnTo>
                  <a:lnTo>
                    <a:pt x="304" y="454"/>
                  </a:lnTo>
                  <a:lnTo>
                    <a:pt x="319" y="459"/>
                  </a:lnTo>
                  <a:lnTo>
                    <a:pt x="333" y="461"/>
                  </a:lnTo>
                  <a:lnTo>
                    <a:pt x="342" y="462"/>
                  </a:lnTo>
                  <a:lnTo>
                    <a:pt x="350" y="462"/>
                  </a:lnTo>
                  <a:lnTo>
                    <a:pt x="358" y="460"/>
                  </a:lnTo>
                  <a:lnTo>
                    <a:pt x="365" y="459"/>
                  </a:lnTo>
                  <a:lnTo>
                    <a:pt x="373" y="456"/>
                  </a:lnTo>
                  <a:lnTo>
                    <a:pt x="380" y="454"/>
                  </a:lnTo>
                  <a:lnTo>
                    <a:pt x="384" y="453"/>
                  </a:lnTo>
                  <a:lnTo>
                    <a:pt x="388" y="451"/>
                  </a:lnTo>
                  <a:lnTo>
                    <a:pt x="389" y="451"/>
                  </a:lnTo>
                  <a:lnTo>
                    <a:pt x="420" y="467"/>
                  </a:lnTo>
                  <a:lnTo>
                    <a:pt x="577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298920" y="3570120"/>
              <a:ext cx="113040" cy="115920"/>
            </a:xfrm>
            <a:custGeom>
              <a:avLst/>
              <a:gdLst/>
              <a:ahLst/>
              <a:rect l="l" t="t" r="r" b="b"/>
              <a:pathLst>
                <a:path w="142" h="146">
                  <a:moveTo>
                    <a:pt x="103" y="139"/>
                  </a:moveTo>
                  <a:lnTo>
                    <a:pt x="110" y="135"/>
                  </a:lnTo>
                  <a:lnTo>
                    <a:pt x="117" y="128"/>
                  </a:lnTo>
                  <a:lnTo>
                    <a:pt x="123" y="119"/>
                  </a:lnTo>
                  <a:lnTo>
                    <a:pt x="130" y="109"/>
                  </a:lnTo>
                  <a:lnTo>
                    <a:pt x="134" y="98"/>
                  </a:lnTo>
                  <a:lnTo>
                    <a:pt x="139" y="86"/>
                  </a:lnTo>
                  <a:lnTo>
                    <a:pt x="141" y="75"/>
                  </a:lnTo>
                  <a:lnTo>
                    <a:pt x="142" y="63"/>
                  </a:lnTo>
                  <a:lnTo>
                    <a:pt x="136" y="48"/>
                  </a:lnTo>
                  <a:lnTo>
                    <a:pt x="127" y="36"/>
                  </a:lnTo>
                  <a:lnTo>
                    <a:pt x="119" y="24"/>
                  </a:lnTo>
                  <a:lnTo>
                    <a:pt x="110" y="15"/>
                  </a:lnTo>
                  <a:lnTo>
                    <a:pt x="100" y="8"/>
                  </a:lnTo>
                  <a:lnTo>
                    <a:pt x="89" y="2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54" y="2"/>
                  </a:lnTo>
                  <a:lnTo>
                    <a:pt x="42" y="6"/>
                  </a:lnTo>
                  <a:lnTo>
                    <a:pt x="31" y="12"/>
                  </a:lnTo>
                  <a:lnTo>
                    <a:pt x="20" y="20"/>
                  </a:lnTo>
                  <a:lnTo>
                    <a:pt x="12" y="29"/>
                  </a:lnTo>
                  <a:lnTo>
                    <a:pt x="8" y="40"/>
                  </a:lnTo>
                  <a:lnTo>
                    <a:pt x="5" y="54"/>
                  </a:lnTo>
                  <a:lnTo>
                    <a:pt x="7" y="69"/>
                  </a:lnTo>
                  <a:lnTo>
                    <a:pt x="9" y="88"/>
                  </a:lnTo>
                  <a:lnTo>
                    <a:pt x="10" y="105"/>
                  </a:lnTo>
                  <a:lnTo>
                    <a:pt x="8" y="120"/>
                  </a:lnTo>
                  <a:lnTo>
                    <a:pt x="0" y="130"/>
                  </a:lnTo>
                  <a:lnTo>
                    <a:pt x="3" y="133"/>
                  </a:lnTo>
                  <a:lnTo>
                    <a:pt x="9" y="135"/>
                  </a:lnTo>
                  <a:lnTo>
                    <a:pt x="14" y="135"/>
                  </a:lnTo>
                  <a:lnTo>
                    <a:pt x="19" y="134"/>
                  </a:lnTo>
                  <a:lnTo>
                    <a:pt x="25" y="133"/>
                  </a:lnTo>
                  <a:lnTo>
                    <a:pt x="31" y="131"/>
                  </a:lnTo>
                  <a:lnTo>
                    <a:pt x="35" y="129"/>
                  </a:lnTo>
                  <a:lnTo>
                    <a:pt x="39" y="127"/>
                  </a:lnTo>
                  <a:lnTo>
                    <a:pt x="42" y="124"/>
                  </a:lnTo>
                  <a:lnTo>
                    <a:pt x="48" y="120"/>
                  </a:lnTo>
                  <a:lnTo>
                    <a:pt x="54" y="115"/>
                  </a:lnTo>
                  <a:lnTo>
                    <a:pt x="60" y="109"/>
                  </a:lnTo>
                  <a:lnTo>
                    <a:pt x="65" y="104"/>
                  </a:lnTo>
                  <a:lnTo>
                    <a:pt x="71" y="97"/>
                  </a:lnTo>
                  <a:lnTo>
                    <a:pt x="77" y="90"/>
                  </a:lnTo>
                  <a:lnTo>
                    <a:pt x="81" y="82"/>
                  </a:lnTo>
                  <a:lnTo>
                    <a:pt x="77" y="100"/>
                  </a:lnTo>
                  <a:lnTo>
                    <a:pt x="73" y="113"/>
                  </a:lnTo>
                  <a:lnTo>
                    <a:pt x="71" y="124"/>
                  </a:lnTo>
                  <a:lnTo>
                    <a:pt x="70" y="136"/>
                  </a:lnTo>
                  <a:lnTo>
                    <a:pt x="73" y="145"/>
                  </a:lnTo>
                  <a:lnTo>
                    <a:pt x="84" y="146"/>
                  </a:lnTo>
                  <a:lnTo>
                    <a:pt x="94" y="144"/>
                  </a:lnTo>
                  <a:lnTo>
                    <a:pt x="103" y="13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986440" y="3288960"/>
              <a:ext cx="1017360" cy="317520"/>
            </a:xfrm>
            <a:custGeom>
              <a:avLst/>
              <a:gdLst/>
              <a:ahLst/>
              <a:rect l="l" t="t" r="r" b="b"/>
              <a:pathLst>
                <a:path w="1282" h="400">
                  <a:moveTo>
                    <a:pt x="354" y="40"/>
                  </a:moveTo>
                  <a:lnTo>
                    <a:pt x="379" y="46"/>
                  </a:lnTo>
                  <a:lnTo>
                    <a:pt x="402" y="51"/>
                  </a:lnTo>
                  <a:lnTo>
                    <a:pt x="423" y="57"/>
                  </a:lnTo>
                  <a:lnTo>
                    <a:pt x="444" y="64"/>
                  </a:lnTo>
                  <a:lnTo>
                    <a:pt x="464" y="71"/>
                  </a:lnTo>
                  <a:lnTo>
                    <a:pt x="481" y="79"/>
                  </a:lnTo>
                  <a:lnTo>
                    <a:pt x="497" y="87"/>
                  </a:lnTo>
                  <a:lnTo>
                    <a:pt x="511" y="96"/>
                  </a:lnTo>
                  <a:lnTo>
                    <a:pt x="534" y="113"/>
                  </a:lnTo>
                  <a:lnTo>
                    <a:pt x="554" y="132"/>
                  </a:lnTo>
                  <a:lnTo>
                    <a:pt x="570" y="149"/>
                  </a:lnTo>
                  <a:lnTo>
                    <a:pt x="583" y="165"/>
                  </a:lnTo>
                  <a:lnTo>
                    <a:pt x="594" y="181"/>
                  </a:lnTo>
                  <a:lnTo>
                    <a:pt x="602" y="195"/>
                  </a:lnTo>
                  <a:lnTo>
                    <a:pt x="608" y="207"/>
                  </a:lnTo>
                  <a:lnTo>
                    <a:pt x="611" y="215"/>
                  </a:lnTo>
                  <a:lnTo>
                    <a:pt x="615" y="223"/>
                  </a:lnTo>
                  <a:lnTo>
                    <a:pt x="621" y="231"/>
                  </a:lnTo>
                  <a:lnTo>
                    <a:pt x="631" y="241"/>
                  </a:lnTo>
                  <a:lnTo>
                    <a:pt x="642" y="250"/>
                  </a:lnTo>
                  <a:lnTo>
                    <a:pt x="654" y="261"/>
                  </a:lnTo>
                  <a:lnTo>
                    <a:pt x="665" y="269"/>
                  </a:lnTo>
                  <a:lnTo>
                    <a:pt x="677" y="277"/>
                  </a:lnTo>
                  <a:lnTo>
                    <a:pt x="686" y="284"/>
                  </a:lnTo>
                  <a:lnTo>
                    <a:pt x="690" y="276"/>
                  </a:lnTo>
                  <a:lnTo>
                    <a:pt x="696" y="270"/>
                  </a:lnTo>
                  <a:lnTo>
                    <a:pt x="702" y="267"/>
                  </a:lnTo>
                  <a:lnTo>
                    <a:pt x="710" y="264"/>
                  </a:lnTo>
                  <a:lnTo>
                    <a:pt x="718" y="264"/>
                  </a:lnTo>
                  <a:lnTo>
                    <a:pt x="727" y="264"/>
                  </a:lnTo>
                  <a:lnTo>
                    <a:pt x="737" y="265"/>
                  </a:lnTo>
                  <a:lnTo>
                    <a:pt x="746" y="267"/>
                  </a:lnTo>
                  <a:lnTo>
                    <a:pt x="764" y="250"/>
                  </a:lnTo>
                  <a:lnTo>
                    <a:pt x="785" y="233"/>
                  </a:lnTo>
                  <a:lnTo>
                    <a:pt x="808" y="215"/>
                  </a:lnTo>
                  <a:lnTo>
                    <a:pt x="832" y="196"/>
                  </a:lnTo>
                  <a:lnTo>
                    <a:pt x="859" y="177"/>
                  </a:lnTo>
                  <a:lnTo>
                    <a:pt x="885" y="158"/>
                  </a:lnTo>
                  <a:lnTo>
                    <a:pt x="911" y="140"/>
                  </a:lnTo>
                  <a:lnTo>
                    <a:pt x="938" y="122"/>
                  </a:lnTo>
                  <a:lnTo>
                    <a:pt x="964" y="104"/>
                  </a:lnTo>
                  <a:lnTo>
                    <a:pt x="991" y="87"/>
                  </a:lnTo>
                  <a:lnTo>
                    <a:pt x="1015" y="72"/>
                  </a:lnTo>
                  <a:lnTo>
                    <a:pt x="1038" y="57"/>
                  </a:lnTo>
                  <a:lnTo>
                    <a:pt x="1059" y="44"/>
                  </a:lnTo>
                  <a:lnTo>
                    <a:pt x="1077" y="34"/>
                  </a:lnTo>
                  <a:lnTo>
                    <a:pt x="1093" y="25"/>
                  </a:lnTo>
                  <a:lnTo>
                    <a:pt x="1106" y="18"/>
                  </a:lnTo>
                  <a:lnTo>
                    <a:pt x="1125" y="18"/>
                  </a:lnTo>
                  <a:lnTo>
                    <a:pt x="1144" y="36"/>
                  </a:lnTo>
                  <a:lnTo>
                    <a:pt x="1161" y="69"/>
                  </a:lnTo>
                  <a:lnTo>
                    <a:pt x="1180" y="108"/>
                  </a:lnTo>
                  <a:lnTo>
                    <a:pt x="1199" y="149"/>
                  </a:lnTo>
                  <a:lnTo>
                    <a:pt x="1222" y="188"/>
                  </a:lnTo>
                  <a:lnTo>
                    <a:pt x="1249" y="219"/>
                  </a:lnTo>
                  <a:lnTo>
                    <a:pt x="1282" y="236"/>
                  </a:lnTo>
                  <a:lnTo>
                    <a:pt x="1260" y="237"/>
                  </a:lnTo>
                  <a:lnTo>
                    <a:pt x="1238" y="233"/>
                  </a:lnTo>
                  <a:lnTo>
                    <a:pt x="1220" y="226"/>
                  </a:lnTo>
                  <a:lnTo>
                    <a:pt x="1201" y="215"/>
                  </a:lnTo>
                  <a:lnTo>
                    <a:pt x="1185" y="201"/>
                  </a:lnTo>
                  <a:lnTo>
                    <a:pt x="1169" y="185"/>
                  </a:lnTo>
                  <a:lnTo>
                    <a:pt x="1154" y="168"/>
                  </a:lnTo>
                  <a:lnTo>
                    <a:pt x="1140" y="151"/>
                  </a:lnTo>
                  <a:lnTo>
                    <a:pt x="1127" y="135"/>
                  </a:lnTo>
                  <a:lnTo>
                    <a:pt x="1113" y="120"/>
                  </a:lnTo>
                  <a:lnTo>
                    <a:pt x="1100" y="109"/>
                  </a:lnTo>
                  <a:lnTo>
                    <a:pt x="1086" y="100"/>
                  </a:lnTo>
                  <a:lnTo>
                    <a:pt x="1073" y="95"/>
                  </a:lnTo>
                  <a:lnTo>
                    <a:pt x="1059" y="96"/>
                  </a:lnTo>
                  <a:lnTo>
                    <a:pt x="1045" y="102"/>
                  </a:lnTo>
                  <a:lnTo>
                    <a:pt x="1030" y="115"/>
                  </a:lnTo>
                  <a:lnTo>
                    <a:pt x="1001" y="147"/>
                  </a:lnTo>
                  <a:lnTo>
                    <a:pt x="975" y="177"/>
                  </a:lnTo>
                  <a:lnTo>
                    <a:pt x="952" y="204"/>
                  </a:lnTo>
                  <a:lnTo>
                    <a:pt x="932" y="229"/>
                  </a:lnTo>
                  <a:lnTo>
                    <a:pt x="916" y="250"/>
                  </a:lnTo>
                  <a:lnTo>
                    <a:pt x="903" y="267"/>
                  </a:lnTo>
                  <a:lnTo>
                    <a:pt x="895" y="278"/>
                  </a:lnTo>
                  <a:lnTo>
                    <a:pt x="890" y="285"/>
                  </a:lnTo>
                  <a:lnTo>
                    <a:pt x="885" y="297"/>
                  </a:lnTo>
                  <a:lnTo>
                    <a:pt x="873" y="307"/>
                  </a:lnTo>
                  <a:lnTo>
                    <a:pt x="864" y="318"/>
                  </a:lnTo>
                  <a:lnTo>
                    <a:pt x="861" y="330"/>
                  </a:lnTo>
                  <a:lnTo>
                    <a:pt x="852" y="329"/>
                  </a:lnTo>
                  <a:lnTo>
                    <a:pt x="844" y="328"/>
                  </a:lnTo>
                  <a:lnTo>
                    <a:pt x="837" y="325"/>
                  </a:lnTo>
                  <a:lnTo>
                    <a:pt x="831" y="323"/>
                  </a:lnTo>
                  <a:lnTo>
                    <a:pt x="826" y="321"/>
                  </a:lnTo>
                  <a:lnTo>
                    <a:pt x="822" y="317"/>
                  </a:lnTo>
                  <a:lnTo>
                    <a:pt x="817" y="313"/>
                  </a:lnTo>
                  <a:lnTo>
                    <a:pt x="812" y="308"/>
                  </a:lnTo>
                  <a:lnTo>
                    <a:pt x="808" y="303"/>
                  </a:lnTo>
                  <a:lnTo>
                    <a:pt x="801" y="300"/>
                  </a:lnTo>
                  <a:lnTo>
                    <a:pt x="793" y="298"/>
                  </a:lnTo>
                  <a:lnTo>
                    <a:pt x="785" y="297"/>
                  </a:lnTo>
                  <a:lnTo>
                    <a:pt x="776" y="297"/>
                  </a:lnTo>
                  <a:lnTo>
                    <a:pt x="768" y="298"/>
                  </a:lnTo>
                  <a:lnTo>
                    <a:pt x="760" y="298"/>
                  </a:lnTo>
                  <a:lnTo>
                    <a:pt x="753" y="299"/>
                  </a:lnTo>
                  <a:lnTo>
                    <a:pt x="745" y="301"/>
                  </a:lnTo>
                  <a:lnTo>
                    <a:pt x="734" y="305"/>
                  </a:lnTo>
                  <a:lnTo>
                    <a:pt x="724" y="310"/>
                  </a:lnTo>
                  <a:lnTo>
                    <a:pt x="712" y="316"/>
                  </a:lnTo>
                  <a:lnTo>
                    <a:pt x="702" y="324"/>
                  </a:lnTo>
                  <a:lnTo>
                    <a:pt x="693" y="332"/>
                  </a:lnTo>
                  <a:lnTo>
                    <a:pt x="685" y="340"/>
                  </a:lnTo>
                  <a:lnTo>
                    <a:pt x="680" y="348"/>
                  </a:lnTo>
                  <a:lnTo>
                    <a:pt x="677" y="364"/>
                  </a:lnTo>
                  <a:lnTo>
                    <a:pt x="676" y="379"/>
                  </a:lnTo>
                  <a:lnTo>
                    <a:pt x="671" y="392"/>
                  </a:lnTo>
                  <a:lnTo>
                    <a:pt x="659" y="399"/>
                  </a:lnTo>
                  <a:lnTo>
                    <a:pt x="648" y="400"/>
                  </a:lnTo>
                  <a:lnTo>
                    <a:pt x="633" y="400"/>
                  </a:lnTo>
                  <a:lnTo>
                    <a:pt x="616" y="400"/>
                  </a:lnTo>
                  <a:lnTo>
                    <a:pt x="598" y="397"/>
                  </a:lnTo>
                  <a:lnTo>
                    <a:pt x="580" y="393"/>
                  </a:lnTo>
                  <a:lnTo>
                    <a:pt x="564" y="389"/>
                  </a:lnTo>
                  <a:lnTo>
                    <a:pt x="551" y="383"/>
                  </a:lnTo>
                  <a:lnTo>
                    <a:pt x="542" y="375"/>
                  </a:lnTo>
                  <a:lnTo>
                    <a:pt x="534" y="364"/>
                  </a:lnTo>
                  <a:lnTo>
                    <a:pt x="524" y="351"/>
                  </a:lnTo>
                  <a:lnTo>
                    <a:pt x="512" y="333"/>
                  </a:lnTo>
                  <a:lnTo>
                    <a:pt x="499" y="314"/>
                  </a:lnTo>
                  <a:lnTo>
                    <a:pt x="487" y="292"/>
                  </a:lnTo>
                  <a:lnTo>
                    <a:pt x="474" y="271"/>
                  </a:lnTo>
                  <a:lnTo>
                    <a:pt x="461" y="249"/>
                  </a:lnTo>
                  <a:lnTo>
                    <a:pt x="451" y="230"/>
                  </a:lnTo>
                  <a:lnTo>
                    <a:pt x="444" y="217"/>
                  </a:lnTo>
                  <a:lnTo>
                    <a:pt x="438" y="203"/>
                  </a:lnTo>
                  <a:lnTo>
                    <a:pt x="432" y="189"/>
                  </a:lnTo>
                  <a:lnTo>
                    <a:pt x="425" y="176"/>
                  </a:lnTo>
                  <a:lnTo>
                    <a:pt x="417" y="162"/>
                  </a:lnTo>
                  <a:lnTo>
                    <a:pt x="406" y="149"/>
                  </a:lnTo>
                  <a:lnTo>
                    <a:pt x="394" y="138"/>
                  </a:lnTo>
                  <a:lnTo>
                    <a:pt x="379" y="127"/>
                  </a:lnTo>
                  <a:lnTo>
                    <a:pt x="369" y="122"/>
                  </a:lnTo>
                  <a:lnTo>
                    <a:pt x="358" y="116"/>
                  </a:lnTo>
                  <a:lnTo>
                    <a:pt x="346" y="110"/>
                  </a:lnTo>
                  <a:lnTo>
                    <a:pt x="333" y="103"/>
                  </a:lnTo>
                  <a:lnTo>
                    <a:pt x="319" y="97"/>
                  </a:lnTo>
                  <a:lnTo>
                    <a:pt x="304" y="90"/>
                  </a:lnTo>
                  <a:lnTo>
                    <a:pt x="289" y="85"/>
                  </a:lnTo>
                  <a:lnTo>
                    <a:pt x="273" y="78"/>
                  </a:lnTo>
                  <a:lnTo>
                    <a:pt x="258" y="72"/>
                  </a:lnTo>
                  <a:lnTo>
                    <a:pt x="243" y="66"/>
                  </a:lnTo>
                  <a:lnTo>
                    <a:pt x="229" y="62"/>
                  </a:lnTo>
                  <a:lnTo>
                    <a:pt x="215" y="57"/>
                  </a:lnTo>
                  <a:lnTo>
                    <a:pt x="203" y="52"/>
                  </a:lnTo>
                  <a:lnTo>
                    <a:pt x="191" y="50"/>
                  </a:lnTo>
                  <a:lnTo>
                    <a:pt x="181" y="47"/>
                  </a:lnTo>
                  <a:lnTo>
                    <a:pt x="173" y="46"/>
                  </a:lnTo>
                  <a:lnTo>
                    <a:pt x="154" y="43"/>
                  </a:lnTo>
                  <a:lnTo>
                    <a:pt x="130" y="40"/>
                  </a:lnTo>
                  <a:lnTo>
                    <a:pt x="102" y="35"/>
                  </a:lnTo>
                  <a:lnTo>
                    <a:pt x="75" y="29"/>
                  </a:lnTo>
                  <a:lnTo>
                    <a:pt x="47" y="24"/>
                  </a:lnTo>
                  <a:lnTo>
                    <a:pt x="24" y="16"/>
                  </a:lnTo>
                  <a:lnTo>
                    <a:pt x="8" y="9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1" y="2"/>
                  </a:lnTo>
                  <a:lnTo>
                    <a:pt x="49" y="3"/>
                  </a:lnTo>
                  <a:lnTo>
                    <a:pt x="69" y="4"/>
                  </a:lnTo>
                  <a:lnTo>
                    <a:pt x="90" y="5"/>
                  </a:lnTo>
                  <a:lnTo>
                    <a:pt x="112" y="8"/>
                  </a:lnTo>
                  <a:lnTo>
                    <a:pt x="135" y="9"/>
                  </a:lnTo>
                  <a:lnTo>
                    <a:pt x="159" y="11"/>
                  </a:lnTo>
                  <a:lnTo>
                    <a:pt x="182" y="13"/>
                  </a:lnTo>
                  <a:lnTo>
                    <a:pt x="207" y="16"/>
                  </a:lnTo>
                  <a:lnTo>
                    <a:pt x="231" y="19"/>
                  </a:lnTo>
                  <a:lnTo>
                    <a:pt x="257" y="23"/>
                  </a:lnTo>
                  <a:lnTo>
                    <a:pt x="282" y="26"/>
                  </a:lnTo>
                  <a:lnTo>
                    <a:pt x="306" y="31"/>
                  </a:lnTo>
                  <a:lnTo>
                    <a:pt x="330" y="35"/>
                  </a:lnTo>
                  <a:lnTo>
                    <a:pt x="354" y="4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595560" y="3554280"/>
              <a:ext cx="196920" cy="48960"/>
            </a:xfrm>
            <a:custGeom>
              <a:avLst/>
              <a:gdLst/>
              <a:ahLst/>
              <a:rect l="l" t="t" r="r" b="b"/>
              <a:pathLst>
                <a:path w="246" h="62">
                  <a:moveTo>
                    <a:pt x="199" y="55"/>
                  </a:moveTo>
                  <a:lnTo>
                    <a:pt x="190" y="54"/>
                  </a:lnTo>
                  <a:lnTo>
                    <a:pt x="182" y="51"/>
                  </a:lnTo>
                  <a:lnTo>
                    <a:pt x="175" y="48"/>
                  </a:lnTo>
                  <a:lnTo>
                    <a:pt x="168" y="44"/>
                  </a:lnTo>
                  <a:lnTo>
                    <a:pt x="162" y="41"/>
                  </a:lnTo>
                  <a:lnTo>
                    <a:pt x="156" y="38"/>
                  </a:lnTo>
                  <a:lnTo>
                    <a:pt x="151" y="34"/>
                  </a:lnTo>
                  <a:lnTo>
                    <a:pt x="145" y="31"/>
                  </a:lnTo>
                  <a:lnTo>
                    <a:pt x="153" y="26"/>
                  </a:lnTo>
                  <a:lnTo>
                    <a:pt x="165" y="21"/>
                  </a:lnTo>
                  <a:lnTo>
                    <a:pt x="178" y="16"/>
                  </a:lnTo>
                  <a:lnTo>
                    <a:pt x="193" y="11"/>
                  </a:lnTo>
                  <a:lnTo>
                    <a:pt x="208" y="8"/>
                  </a:lnTo>
                  <a:lnTo>
                    <a:pt x="223" y="4"/>
                  </a:lnTo>
                  <a:lnTo>
                    <a:pt x="236" y="2"/>
                  </a:lnTo>
                  <a:lnTo>
                    <a:pt x="246" y="1"/>
                  </a:lnTo>
                  <a:lnTo>
                    <a:pt x="228" y="1"/>
                  </a:lnTo>
                  <a:lnTo>
                    <a:pt x="208" y="1"/>
                  </a:lnTo>
                  <a:lnTo>
                    <a:pt x="189" y="1"/>
                  </a:lnTo>
                  <a:lnTo>
                    <a:pt x="170" y="1"/>
                  </a:lnTo>
                  <a:lnTo>
                    <a:pt x="151" y="1"/>
                  </a:lnTo>
                  <a:lnTo>
                    <a:pt x="132" y="1"/>
                  </a:lnTo>
                  <a:lnTo>
                    <a:pt x="114" y="1"/>
                  </a:lnTo>
                  <a:lnTo>
                    <a:pt x="96" y="0"/>
                  </a:lnTo>
                  <a:lnTo>
                    <a:pt x="79" y="0"/>
                  </a:lnTo>
                  <a:lnTo>
                    <a:pt x="63" y="0"/>
                  </a:lnTo>
                  <a:lnTo>
                    <a:pt x="49" y="0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1" y="5"/>
                  </a:lnTo>
                  <a:lnTo>
                    <a:pt x="5" y="11"/>
                  </a:lnTo>
                  <a:lnTo>
                    <a:pt x="9" y="16"/>
                  </a:lnTo>
                  <a:lnTo>
                    <a:pt x="15" y="19"/>
                  </a:lnTo>
                  <a:lnTo>
                    <a:pt x="20" y="21"/>
                  </a:lnTo>
                  <a:lnTo>
                    <a:pt x="25" y="24"/>
                  </a:lnTo>
                  <a:lnTo>
                    <a:pt x="31" y="25"/>
                  </a:lnTo>
                  <a:lnTo>
                    <a:pt x="36" y="25"/>
                  </a:lnTo>
                  <a:lnTo>
                    <a:pt x="32" y="29"/>
                  </a:lnTo>
                  <a:lnTo>
                    <a:pt x="32" y="33"/>
                  </a:lnTo>
                  <a:lnTo>
                    <a:pt x="35" y="36"/>
                  </a:lnTo>
                  <a:lnTo>
                    <a:pt x="40" y="38"/>
                  </a:lnTo>
                  <a:lnTo>
                    <a:pt x="46" y="39"/>
                  </a:lnTo>
                  <a:lnTo>
                    <a:pt x="54" y="39"/>
                  </a:lnTo>
                  <a:lnTo>
                    <a:pt x="62" y="39"/>
                  </a:lnTo>
                  <a:lnTo>
                    <a:pt x="69" y="38"/>
                  </a:lnTo>
                  <a:lnTo>
                    <a:pt x="68" y="43"/>
                  </a:lnTo>
                  <a:lnTo>
                    <a:pt x="70" y="48"/>
                  </a:lnTo>
                  <a:lnTo>
                    <a:pt x="74" y="51"/>
                  </a:lnTo>
                  <a:lnTo>
                    <a:pt x="78" y="54"/>
                  </a:lnTo>
                  <a:lnTo>
                    <a:pt x="85" y="55"/>
                  </a:lnTo>
                  <a:lnTo>
                    <a:pt x="92" y="54"/>
                  </a:lnTo>
                  <a:lnTo>
                    <a:pt x="99" y="50"/>
                  </a:lnTo>
                  <a:lnTo>
                    <a:pt x="106" y="46"/>
                  </a:lnTo>
                  <a:lnTo>
                    <a:pt x="110" y="53"/>
                  </a:lnTo>
                  <a:lnTo>
                    <a:pt x="116" y="57"/>
                  </a:lnTo>
                  <a:lnTo>
                    <a:pt x="122" y="61"/>
                  </a:lnTo>
                  <a:lnTo>
                    <a:pt x="128" y="62"/>
                  </a:lnTo>
                  <a:lnTo>
                    <a:pt x="133" y="62"/>
                  </a:lnTo>
                  <a:lnTo>
                    <a:pt x="138" y="61"/>
                  </a:lnTo>
                  <a:lnTo>
                    <a:pt x="144" y="59"/>
                  </a:lnTo>
                  <a:lnTo>
                    <a:pt x="147" y="58"/>
                  </a:lnTo>
                  <a:lnTo>
                    <a:pt x="151" y="57"/>
                  </a:lnTo>
                  <a:lnTo>
                    <a:pt x="156" y="56"/>
                  </a:lnTo>
                  <a:lnTo>
                    <a:pt x="162" y="56"/>
                  </a:lnTo>
                  <a:lnTo>
                    <a:pt x="169" y="55"/>
                  </a:lnTo>
                  <a:lnTo>
                    <a:pt x="176" y="55"/>
                  </a:lnTo>
                  <a:lnTo>
                    <a:pt x="184" y="55"/>
                  </a:lnTo>
                  <a:lnTo>
                    <a:pt x="191" y="55"/>
                  </a:lnTo>
                  <a:lnTo>
                    <a:pt x="199" y="55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298920" y="3570120"/>
              <a:ext cx="60480" cy="98280"/>
            </a:xfrm>
            <a:custGeom>
              <a:avLst/>
              <a:gdLst/>
              <a:ahLst/>
              <a:rect l="l" t="t" r="r" b="b"/>
              <a:pathLst>
                <a:path w="76" h="123">
                  <a:moveTo>
                    <a:pt x="76" y="62"/>
                  </a:moveTo>
                  <a:lnTo>
                    <a:pt x="70" y="48"/>
                  </a:lnTo>
                  <a:lnTo>
                    <a:pt x="61" y="36"/>
                  </a:lnTo>
                  <a:lnTo>
                    <a:pt x="53" y="25"/>
                  </a:lnTo>
                  <a:lnTo>
                    <a:pt x="44" y="15"/>
                  </a:lnTo>
                  <a:lnTo>
                    <a:pt x="34" y="8"/>
                  </a:lnTo>
                  <a:lnTo>
                    <a:pt x="23" y="4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4" y="8"/>
                  </a:lnTo>
                  <a:lnTo>
                    <a:pt x="28" y="21"/>
                  </a:lnTo>
                  <a:lnTo>
                    <a:pt x="41" y="36"/>
                  </a:lnTo>
                  <a:lnTo>
                    <a:pt x="51" y="53"/>
                  </a:lnTo>
                  <a:lnTo>
                    <a:pt x="58" y="70"/>
                  </a:lnTo>
                  <a:lnTo>
                    <a:pt x="61" y="89"/>
                  </a:lnTo>
                  <a:lnTo>
                    <a:pt x="61" y="107"/>
                  </a:lnTo>
                  <a:lnTo>
                    <a:pt x="55" y="123"/>
                  </a:lnTo>
                  <a:lnTo>
                    <a:pt x="65" y="105"/>
                  </a:lnTo>
                  <a:lnTo>
                    <a:pt x="73" y="88"/>
                  </a:lnTo>
                  <a:lnTo>
                    <a:pt x="76" y="74"/>
                  </a:lnTo>
                  <a:lnTo>
                    <a:pt x="76" y="6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329160" y="3609720"/>
              <a:ext cx="52560" cy="68400"/>
            </a:xfrm>
            <a:custGeom>
              <a:avLst/>
              <a:gdLst/>
              <a:ahLst/>
              <a:rect l="l" t="t" r="r" b="b"/>
              <a:pathLst>
                <a:path w="64" h="86">
                  <a:moveTo>
                    <a:pt x="31" y="86"/>
                  </a:moveTo>
                  <a:lnTo>
                    <a:pt x="32" y="74"/>
                  </a:lnTo>
                  <a:lnTo>
                    <a:pt x="34" y="63"/>
                  </a:lnTo>
                  <a:lnTo>
                    <a:pt x="38" y="50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2" y="47"/>
                  </a:lnTo>
                  <a:lnTo>
                    <a:pt x="26" y="54"/>
                  </a:lnTo>
                  <a:lnTo>
                    <a:pt x="21" y="59"/>
                  </a:lnTo>
                  <a:lnTo>
                    <a:pt x="15" y="65"/>
                  </a:lnTo>
                  <a:lnTo>
                    <a:pt x="9" y="70"/>
                  </a:lnTo>
                  <a:lnTo>
                    <a:pt x="3" y="74"/>
                  </a:lnTo>
                  <a:lnTo>
                    <a:pt x="0" y="77"/>
                  </a:lnTo>
                  <a:lnTo>
                    <a:pt x="8" y="62"/>
                  </a:lnTo>
                  <a:lnTo>
                    <a:pt x="16" y="42"/>
                  </a:lnTo>
                  <a:lnTo>
                    <a:pt x="25" y="23"/>
                  </a:lnTo>
                  <a:lnTo>
                    <a:pt x="32" y="11"/>
                  </a:lnTo>
                  <a:lnTo>
                    <a:pt x="39" y="5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2" y="2"/>
                  </a:lnTo>
                  <a:lnTo>
                    <a:pt x="64" y="7"/>
                  </a:lnTo>
                  <a:lnTo>
                    <a:pt x="64" y="16"/>
                  </a:lnTo>
                  <a:lnTo>
                    <a:pt x="63" y="27"/>
                  </a:lnTo>
                  <a:lnTo>
                    <a:pt x="60" y="41"/>
                  </a:lnTo>
                  <a:lnTo>
                    <a:pt x="54" y="55"/>
                  </a:lnTo>
                  <a:lnTo>
                    <a:pt x="48" y="69"/>
                  </a:lnTo>
                  <a:lnTo>
                    <a:pt x="40" y="79"/>
                  </a:lnTo>
                  <a:lnTo>
                    <a:pt x="31" y="86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6368400" y="3678120"/>
              <a:ext cx="16200" cy="68040"/>
            </a:xfrm>
            <a:custGeom>
              <a:avLst/>
              <a:gdLst/>
              <a:ahLst/>
              <a:rect l="l" t="t" r="r" b="b"/>
              <a:pathLst>
                <a:path w="21" h="85">
                  <a:moveTo>
                    <a:pt x="21" y="85"/>
                  </a:moveTo>
                  <a:lnTo>
                    <a:pt x="15" y="68"/>
                  </a:lnTo>
                  <a:lnTo>
                    <a:pt x="12" y="47"/>
                  </a:lnTo>
                  <a:lnTo>
                    <a:pt x="12" y="23"/>
                  </a:lnTo>
                  <a:lnTo>
                    <a:pt x="18" y="0"/>
                  </a:lnTo>
                  <a:lnTo>
                    <a:pt x="6" y="24"/>
                  </a:lnTo>
                  <a:lnTo>
                    <a:pt x="0" y="52"/>
                  </a:lnTo>
                  <a:lnTo>
                    <a:pt x="4" y="75"/>
                  </a:lnTo>
                  <a:lnTo>
                    <a:pt x="21" y="85"/>
                  </a:lnTo>
                  <a:close/>
                </a:path>
              </a:pathLst>
            </a:custGeom>
            <a:solidFill>
              <a:srgbClr val="f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5986080" y="3303360"/>
              <a:ext cx="199800" cy="172800"/>
            </a:xfrm>
            <a:custGeom>
              <a:avLst/>
              <a:gdLst/>
              <a:ahLst/>
              <a:rect l="l" t="t" r="r" b="b"/>
              <a:pathLst>
                <a:path w="252" h="219">
                  <a:moveTo>
                    <a:pt x="0" y="97"/>
                  </a:moveTo>
                  <a:lnTo>
                    <a:pt x="15" y="84"/>
                  </a:lnTo>
                  <a:lnTo>
                    <a:pt x="29" y="78"/>
                  </a:lnTo>
                  <a:lnTo>
                    <a:pt x="43" y="77"/>
                  </a:lnTo>
                  <a:lnTo>
                    <a:pt x="56" y="82"/>
                  </a:lnTo>
                  <a:lnTo>
                    <a:pt x="70" y="91"/>
                  </a:lnTo>
                  <a:lnTo>
                    <a:pt x="83" y="102"/>
                  </a:lnTo>
                  <a:lnTo>
                    <a:pt x="97" y="117"/>
                  </a:lnTo>
                  <a:lnTo>
                    <a:pt x="110" y="133"/>
                  </a:lnTo>
                  <a:lnTo>
                    <a:pt x="124" y="150"/>
                  </a:lnTo>
                  <a:lnTo>
                    <a:pt x="139" y="167"/>
                  </a:lnTo>
                  <a:lnTo>
                    <a:pt x="155" y="183"/>
                  </a:lnTo>
                  <a:lnTo>
                    <a:pt x="171" y="197"/>
                  </a:lnTo>
                  <a:lnTo>
                    <a:pt x="190" y="208"/>
                  </a:lnTo>
                  <a:lnTo>
                    <a:pt x="208" y="215"/>
                  </a:lnTo>
                  <a:lnTo>
                    <a:pt x="230" y="219"/>
                  </a:lnTo>
                  <a:lnTo>
                    <a:pt x="252" y="218"/>
                  </a:lnTo>
                  <a:lnTo>
                    <a:pt x="219" y="201"/>
                  </a:lnTo>
                  <a:lnTo>
                    <a:pt x="192" y="170"/>
                  </a:lnTo>
                  <a:lnTo>
                    <a:pt x="169" y="131"/>
                  </a:lnTo>
                  <a:lnTo>
                    <a:pt x="150" y="90"/>
                  </a:lnTo>
                  <a:lnTo>
                    <a:pt x="131" y="51"/>
                  </a:lnTo>
                  <a:lnTo>
                    <a:pt x="114" y="18"/>
                  </a:lnTo>
                  <a:lnTo>
                    <a:pt x="95" y="0"/>
                  </a:lnTo>
                  <a:lnTo>
                    <a:pt x="76" y="0"/>
                  </a:lnTo>
                  <a:lnTo>
                    <a:pt x="68" y="9"/>
                  </a:lnTo>
                  <a:lnTo>
                    <a:pt x="59" y="21"/>
                  </a:lnTo>
                  <a:lnTo>
                    <a:pt x="48" y="32"/>
                  </a:lnTo>
                  <a:lnTo>
                    <a:pt x="37" y="45"/>
                  </a:lnTo>
                  <a:lnTo>
                    <a:pt x="25" y="57"/>
                  </a:lnTo>
                  <a:lnTo>
                    <a:pt x="16" y="71"/>
                  </a:lnTo>
                  <a:lnTo>
                    <a:pt x="7" y="84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6297120" y="3524040"/>
              <a:ext cx="336600" cy="150840"/>
            </a:xfrm>
            <a:custGeom>
              <a:avLst/>
              <a:gdLst/>
              <a:ahLst/>
              <a:rect l="l" t="t" r="r" b="b"/>
              <a:pathLst>
                <a:path w="424" h="188">
                  <a:moveTo>
                    <a:pt x="76" y="78"/>
                  </a:moveTo>
                  <a:lnTo>
                    <a:pt x="85" y="86"/>
                  </a:lnTo>
                  <a:lnTo>
                    <a:pt x="98" y="92"/>
                  </a:lnTo>
                  <a:lnTo>
                    <a:pt x="114" y="96"/>
                  </a:lnTo>
                  <a:lnTo>
                    <a:pt x="132" y="100"/>
                  </a:lnTo>
                  <a:lnTo>
                    <a:pt x="150" y="103"/>
                  </a:lnTo>
                  <a:lnTo>
                    <a:pt x="167" y="103"/>
                  </a:lnTo>
                  <a:lnTo>
                    <a:pt x="182" y="103"/>
                  </a:lnTo>
                  <a:lnTo>
                    <a:pt x="193" y="102"/>
                  </a:lnTo>
                  <a:lnTo>
                    <a:pt x="205" y="95"/>
                  </a:lnTo>
                  <a:lnTo>
                    <a:pt x="210" y="82"/>
                  </a:lnTo>
                  <a:lnTo>
                    <a:pt x="211" y="67"/>
                  </a:lnTo>
                  <a:lnTo>
                    <a:pt x="214" y="51"/>
                  </a:lnTo>
                  <a:lnTo>
                    <a:pt x="219" y="43"/>
                  </a:lnTo>
                  <a:lnTo>
                    <a:pt x="227" y="35"/>
                  </a:lnTo>
                  <a:lnTo>
                    <a:pt x="236" y="27"/>
                  </a:lnTo>
                  <a:lnTo>
                    <a:pt x="246" y="19"/>
                  </a:lnTo>
                  <a:lnTo>
                    <a:pt x="258" y="13"/>
                  </a:lnTo>
                  <a:lnTo>
                    <a:pt x="268" y="8"/>
                  </a:lnTo>
                  <a:lnTo>
                    <a:pt x="279" y="4"/>
                  </a:lnTo>
                  <a:lnTo>
                    <a:pt x="287" y="2"/>
                  </a:lnTo>
                  <a:lnTo>
                    <a:pt x="294" y="1"/>
                  </a:lnTo>
                  <a:lnTo>
                    <a:pt x="302" y="1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7" y="1"/>
                  </a:lnTo>
                  <a:lnTo>
                    <a:pt x="335" y="3"/>
                  </a:lnTo>
                  <a:lnTo>
                    <a:pt x="342" y="6"/>
                  </a:lnTo>
                  <a:lnTo>
                    <a:pt x="346" y="11"/>
                  </a:lnTo>
                  <a:lnTo>
                    <a:pt x="351" y="16"/>
                  </a:lnTo>
                  <a:lnTo>
                    <a:pt x="356" y="20"/>
                  </a:lnTo>
                  <a:lnTo>
                    <a:pt x="360" y="24"/>
                  </a:lnTo>
                  <a:lnTo>
                    <a:pt x="365" y="26"/>
                  </a:lnTo>
                  <a:lnTo>
                    <a:pt x="371" y="28"/>
                  </a:lnTo>
                  <a:lnTo>
                    <a:pt x="378" y="31"/>
                  </a:lnTo>
                  <a:lnTo>
                    <a:pt x="386" y="32"/>
                  </a:lnTo>
                  <a:lnTo>
                    <a:pt x="395" y="33"/>
                  </a:lnTo>
                  <a:lnTo>
                    <a:pt x="409" y="50"/>
                  </a:lnTo>
                  <a:lnTo>
                    <a:pt x="419" y="72"/>
                  </a:lnTo>
                  <a:lnTo>
                    <a:pt x="424" y="95"/>
                  </a:lnTo>
                  <a:lnTo>
                    <a:pt x="422" y="120"/>
                  </a:lnTo>
                  <a:lnTo>
                    <a:pt x="416" y="105"/>
                  </a:lnTo>
                  <a:lnTo>
                    <a:pt x="407" y="93"/>
                  </a:lnTo>
                  <a:lnTo>
                    <a:pt x="399" y="81"/>
                  </a:lnTo>
                  <a:lnTo>
                    <a:pt x="390" y="72"/>
                  </a:lnTo>
                  <a:lnTo>
                    <a:pt x="380" y="65"/>
                  </a:lnTo>
                  <a:lnTo>
                    <a:pt x="369" y="59"/>
                  </a:lnTo>
                  <a:lnTo>
                    <a:pt x="359" y="57"/>
                  </a:lnTo>
                  <a:lnTo>
                    <a:pt x="346" y="57"/>
                  </a:lnTo>
                  <a:lnTo>
                    <a:pt x="334" y="59"/>
                  </a:lnTo>
                  <a:lnTo>
                    <a:pt x="322" y="63"/>
                  </a:lnTo>
                  <a:lnTo>
                    <a:pt x="311" y="69"/>
                  </a:lnTo>
                  <a:lnTo>
                    <a:pt x="300" y="77"/>
                  </a:lnTo>
                  <a:lnTo>
                    <a:pt x="292" y="86"/>
                  </a:lnTo>
                  <a:lnTo>
                    <a:pt x="288" y="97"/>
                  </a:lnTo>
                  <a:lnTo>
                    <a:pt x="285" y="111"/>
                  </a:lnTo>
                  <a:lnTo>
                    <a:pt x="287" y="126"/>
                  </a:lnTo>
                  <a:lnTo>
                    <a:pt x="289" y="145"/>
                  </a:lnTo>
                  <a:lnTo>
                    <a:pt x="290" y="162"/>
                  </a:lnTo>
                  <a:lnTo>
                    <a:pt x="288" y="177"/>
                  </a:lnTo>
                  <a:lnTo>
                    <a:pt x="280" y="187"/>
                  </a:lnTo>
                  <a:lnTo>
                    <a:pt x="276" y="188"/>
                  </a:lnTo>
                  <a:lnTo>
                    <a:pt x="272" y="187"/>
                  </a:lnTo>
                  <a:lnTo>
                    <a:pt x="266" y="185"/>
                  </a:lnTo>
                  <a:lnTo>
                    <a:pt x="260" y="181"/>
                  </a:lnTo>
                  <a:lnTo>
                    <a:pt x="254" y="179"/>
                  </a:lnTo>
                  <a:lnTo>
                    <a:pt x="246" y="177"/>
                  </a:lnTo>
                  <a:lnTo>
                    <a:pt x="239" y="177"/>
                  </a:lnTo>
                  <a:lnTo>
                    <a:pt x="231" y="178"/>
                  </a:lnTo>
                  <a:lnTo>
                    <a:pt x="216" y="184"/>
                  </a:lnTo>
                  <a:lnTo>
                    <a:pt x="198" y="185"/>
                  </a:lnTo>
                  <a:lnTo>
                    <a:pt x="177" y="183"/>
                  </a:lnTo>
                  <a:lnTo>
                    <a:pt x="155" y="178"/>
                  </a:lnTo>
                  <a:lnTo>
                    <a:pt x="134" y="172"/>
                  </a:lnTo>
                  <a:lnTo>
                    <a:pt x="114" y="164"/>
                  </a:lnTo>
                  <a:lnTo>
                    <a:pt x="98" y="156"/>
                  </a:lnTo>
                  <a:lnTo>
                    <a:pt x="85" y="148"/>
                  </a:lnTo>
                  <a:lnTo>
                    <a:pt x="78" y="145"/>
                  </a:lnTo>
                  <a:lnTo>
                    <a:pt x="68" y="140"/>
                  </a:lnTo>
                  <a:lnTo>
                    <a:pt x="58" y="134"/>
                  </a:lnTo>
                  <a:lnTo>
                    <a:pt x="46" y="127"/>
                  </a:lnTo>
                  <a:lnTo>
                    <a:pt x="33" y="119"/>
                  </a:lnTo>
                  <a:lnTo>
                    <a:pt x="21" y="111"/>
                  </a:lnTo>
                  <a:lnTo>
                    <a:pt x="10" y="102"/>
                  </a:lnTo>
                  <a:lnTo>
                    <a:pt x="0" y="93"/>
                  </a:lnTo>
                  <a:lnTo>
                    <a:pt x="12" y="94"/>
                  </a:lnTo>
                  <a:lnTo>
                    <a:pt x="23" y="94"/>
                  </a:lnTo>
                  <a:lnTo>
                    <a:pt x="36" y="94"/>
                  </a:lnTo>
                  <a:lnTo>
                    <a:pt x="47" y="94"/>
                  </a:lnTo>
                  <a:lnTo>
                    <a:pt x="58" y="92"/>
                  </a:lnTo>
                  <a:lnTo>
                    <a:pt x="67" y="88"/>
                  </a:lnTo>
                  <a:lnTo>
                    <a:pt x="73" y="84"/>
                  </a:lnTo>
                  <a:lnTo>
                    <a:pt x="76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573240" y="3555720"/>
              <a:ext cx="103320" cy="50760"/>
            </a:xfrm>
            <a:custGeom>
              <a:avLst/>
              <a:gdLst/>
              <a:ahLst/>
              <a:rect l="l" t="t" r="r" b="b"/>
              <a:pathLst>
                <a:path w="130" h="64">
                  <a:moveTo>
                    <a:pt x="130" y="39"/>
                  </a:moveTo>
                  <a:lnTo>
                    <a:pt x="124" y="32"/>
                  </a:lnTo>
                  <a:lnTo>
                    <a:pt x="117" y="23"/>
                  </a:lnTo>
                  <a:lnTo>
                    <a:pt x="109" y="12"/>
                  </a:lnTo>
                  <a:lnTo>
                    <a:pt x="101" y="0"/>
                  </a:lnTo>
                  <a:lnTo>
                    <a:pt x="91" y="1"/>
                  </a:lnTo>
                  <a:lnTo>
                    <a:pt x="78" y="3"/>
                  </a:lnTo>
                  <a:lnTo>
                    <a:pt x="63" y="7"/>
                  </a:lnTo>
                  <a:lnTo>
                    <a:pt x="48" y="10"/>
                  </a:lnTo>
                  <a:lnTo>
                    <a:pt x="33" y="15"/>
                  </a:lnTo>
                  <a:lnTo>
                    <a:pt x="20" y="20"/>
                  </a:lnTo>
                  <a:lnTo>
                    <a:pt x="8" y="25"/>
                  </a:lnTo>
                  <a:lnTo>
                    <a:pt x="0" y="30"/>
                  </a:lnTo>
                  <a:lnTo>
                    <a:pt x="6" y="33"/>
                  </a:lnTo>
                  <a:lnTo>
                    <a:pt x="13" y="37"/>
                  </a:lnTo>
                  <a:lnTo>
                    <a:pt x="18" y="41"/>
                  </a:lnTo>
                  <a:lnTo>
                    <a:pt x="24" y="46"/>
                  </a:lnTo>
                  <a:lnTo>
                    <a:pt x="31" y="50"/>
                  </a:lnTo>
                  <a:lnTo>
                    <a:pt x="38" y="55"/>
                  </a:lnTo>
                  <a:lnTo>
                    <a:pt x="47" y="58"/>
                  </a:lnTo>
                  <a:lnTo>
                    <a:pt x="56" y="60"/>
                  </a:lnTo>
                  <a:lnTo>
                    <a:pt x="67" y="61"/>
                  </a:lnTo>
                  <a:lnTo>
                    <a:pt x="77" y="63"/>
                  </a:lnTo>
                  <a:lnTo>
                    <a:pt x="87" y="64"/>
                  </a:lnTo>
                  <a:lnTo>
                    <a:pt x="98" y="64"/>
                  </a:lnTo>
                  <a:lnTo>
                    <a:pt x="108" y="63"/>
                  </a:lnTo>
                  <a:lnTo>
                    <a:pt x="116" y="58"/>
                  </a:lnTo>
                  <a:lnTo>
                    <a:pt x="124" y="50"/>
                  </a:lnTo>
                  <a:lnTo>
                    <a:pt x="13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329160" y="3634920"/>
              <a:ext cx="85680" cy="111240"/>
            </a:xfrm>
            <a:custGeom>
              <a:avLst/>
              <a:gdLst/>
              <a:ahLst/>
              <a:rect l="l" t="t" r="r" b="b"/>
              <a:pathLst>
                <a:path w="107" h="139">
                  <a:moveTo>
                    <a:pt x="107" y="57"/>
                  </a:moveTo>
                  <a:lnTo>
                    <a:pt x="98" y="62"/>
                  </a:lnTo>
                  <a:lnTo>
                    <a:pt x="88" y="64"/>
                  </a:lnTo>
                  <a:lnTo>
                    <a:pt x="77" y="63"/>
                  </a:lnTo>
                  <a:lnTo>
                    <a:pt x="74" y="54"/>
                  </a:lnTo>
                  <a:lnTo>
                    <a:pt x="75" y="42"/>
                  </a:lnTo>
                  <a:lnTo>
                    <a:pt x="77" y="31"/>
                  </a:lnTo>
                  <a:lnTo>
                    <a:pt x="81" y="18"/>
                  </a:lnTo>
                  <a:lnTo>
                    <a:pt x="85" y="0"/>
                  </a:lnTo>
                  <a:lnTo>
                    <a:pt x="81" y="8"/>
                  </a:lnTo>
                  <a:lnTo>
                    <a:pt x="75" y="15"/>
                  </a:lnTo>
                  <a:lnTo>
                    <a:pt x="69" y="22"/>
                  </a:lnTo>
                  <a:lnTo>
                    <a:pt x="64" y="27"/>
                  </a:lnTo>
                  <a:lnTo>
                    <a:pt x="58" y="33"/>
                  </a:lnTo>
                  <a:lnTo>
                    <a:pt x="52" y="38"/>
                  </a:lnTo>
                  <a:lnTo>
                    <a:pt x="46" y="42"/>
                  </a:lnTo>
                  <a:lnTo>
                    <a:pt x="43" y="45"/>
                  </a:lnTo>
                  <a:lnTo>
                    <a:pt x="39" y="47"/>
                  </a:lnTo>
                  <a:lnTo>
                    <a:pt x="35" y="49"/>
                  </a:lnTo>
                  <a:lnTo>
                    <a:pt x="29" y="51"/>
                  </a:lnTo>
                  <a:lnTo>
                    <a:pt x="23" y="52"/>
                  </a:lnTo>
                  <a:lnTo>
                    <a:pt x="18" y="53"/>
                  </a:lnTo>
                  <a:lnTo>
                    <a:pt x="13" y="53"/>
                  </a:lnTo>
                  <a:lnTo>
                    <a:pt x="7" y="51"/>
                  </a:lnTo>
                  <a:lnTo>
                    <a:pt x="4" y="48"/>
                  </a:lnTo>
                  <a:lnTo>
                    <a:pt x="3" y="69"/>
                  </a:lnTo>
                  <a:lnTo>
                    <a:pt x="0" y="91"/>
                  </a:lnTo>
                  <a:lnTo>
                    <a:pt x="1" y="110"/>
                  </a:lnTo>
                  <a:lnTo>
                    <a:pt x="7" y="123"/>
                  </a:lnTo>
                  <a:lnTo>
                    <a:pt x="9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6" y="76"/>
                  </a:lnTo>
                  <a:lnTo>
                    <a:pt x="32" y="67"/>
                  </a:lnTo>
                  <a:lnTo>
                    <a:pt x="41" y="60"/>
                  </a:lnTo>
                  <a:lnTo>
                    <a:pt x="49" y="55"/>
                  </a:lnTo>
                  <a:lnTo>
                    <a:pt x="56" y="54"/>
                  </a:lnTo>
                  <a:lnTo>
                    <a:pt x="50" y="77"/>
                  </a:lnTo>
                  <a:lnTo>
                    <a:pt x="50" y="101"/>
                  </a:lnTo>
                  <a:lnTo>
                    <a:pt x="53" y="122"/>
                  </a:lnTo>
                  <a:lnTo>
                    <a:pt x="59" y="139"/>
                  </a:lnTo>
                  <a:lnTo>
                    <a:pt x="60" y="123"/>
                  </a:lnTo>
                  <a:lnTo>
                    <a:pt x="64" y="108"/>
                  </a:lnTo>
                  <a:lnTo>
                    <a:pt x="68" y="95"/>
                  </a:lnTo>
                  <a:lnTo>
                    <a:pt x="75" y="84"/>
                  </a:lnTo>
                  <a:lnTo>
                    <a:pt x="82" y="75"/>
                  </a:lnTo>
                  <a:lnTo>
                    <a:pt x="90" y="67"/>
                  </a:lnTo>
                  <a:lnTo>
                    <a:pt x="99" y="61"/>
                  </a:lnTo>
                  <a:lnTo>
                    <a:pt x="107" y="57"/>
                  </a:lnTo>
                  <a:close/>
                </a:path>
              </a:pathLst>
            </a:custGeom>
            <a:solidFill>
              <a:srgbClr val="d8aa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478200" y="3320640"/>
              <a:ext cx="244440" cy="285840"/>
            </a:xfrm>
            <a:custGeom>
              <a:avLst/>
              <a:gdLst/>
              <a:ahLst/>
              <a:rect l="l" t="t" r="r" b="b"/>
              <a:pathLst>
                <a:path w="308" h="360">
                  <a:moveTo>
                    <a:pt x="257" y="175"/>
                  </a:moveTo>
                  <a:lnTo>
                    <a:pt x="254" y="167"/>
                  </a:lnTo>
                  <a:lnTo>
                    <a:pt x="248" y="155"/>
                  </a:lnTo>
                  <a:lnTo>
                    <a:pt x="240" y="141"/>
                  </a:lnTo>
                  <a:lnTo>
                    <a:pt x="229" y="125"/>
                  </a:lnTo>
                  <a:lnTo>
                    <a:pt x="216" y="109"/>
                  </a:lnTo>
                  <a:lnTo>
                    <a:pt x="200" y="92"/>
                  </a:lnTo>
                  <a:lnTo>
                    <a:pt x="180" y="73"/>
                  </a:lnTo>
                  <a:lnTo>
                    <a:pt x="157" y="56"/>
                  </a:lnTo>
                  <a:lnTo>
                    <a:pt x="143" y="47"/>
                  </a:lnTo>
                  <a:lnTo>
                    <a:pt x="127" y="39"/>
                  </a:lnTo>
                  <a:lnTo>
                    <a:pt x="110" y="31"/>
                  </a:lnTo>
                  <a:lnTo>
                    <a:pt x="90" y="24"/>
                  </a:lnTo>
                  <a:lnTo>
                    <a:pt x="69" y="17"/>
                  </a:lnTo>
                  <a:lnTo>
                    <a:pt x="48" y="11"/>
                  </a:lnTo>
                  <a:lnTo>
                    <a:pt x="25" y="6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7" y="21"/>
                  </a:lnTo>
                  <a:lnTo>
                    <a:pt x="51" y="29"/>
                  </a:lnTo>
                  <a:lnTo>
                    <a:pt x="65" y="38"/>
                  </a:lnTo>
                  <a:lnTo>
                    <a:pt x="79" y="47"/>
                  </a:lnTo>
                  <a:lnTo>
                    <a:pt x="93" y="56"/>
                  </a:lnTo>
                  <a:lnTo>
                    <a:pt x="106" y="67"/>
                  </a:lnTo>
                  <a:lnTo>
                    <a:pt x="119" y="77"/>
                  </a:lnTo>
                  <a:lnTo>
                    <a:pt x="133" y="86"/>
                  </a:lnTo>
                  <a:lnTo>
                    <a:pt x="144" y="97"/>
                  </a:lnTo>
                  <a:lnTo>
                    <a:pt x="156" y="107"/>
                  </a:lnTo>
                  <a:lnTo>
                    <a:pt x="166" y="117"/>
                  </a:lnTo>
                  <a:lnTo>
                    <a:pt x="175" y="126"/>
                  </a:lnTo>
                  <a:lnTo>
                    <a:pt x="183" y="136"/>
                  </a:lnTo>
                  <a:lnTo>
                    <a:pt x="190" y="145"/>
                  </a:lnTo>
                  <a:lnTo>
                    <a:pt x="203" y="163"/>
                  </a:lnTo>
                  <a:lnTo>
                    <a:pt x="216" y="183"/>
                  </a:lnTo>
                  <a:lnTo>
                    <a:pt x="226" y="202"/>
                  </a:lnTo>
                  <a:lnTo>
                    <a:pt x="234" y="222"/>
                  </a:lnTo>
                  <a:lnTo>
                    <a:pt x="238" y="243"/>
                  </a:lnTo>
                  <a:lnTo>
                    <a:pt x="236" y="262"/>
                  </a:lnTo>
                  <a:lnTo>
                    <a:pt x="228" y="281"/>
                  </a:lnTo>
                  <a:lnTo>
                    <a:pt x="212" y="299"/>
                  </a:lnTo>
                  <a:lnTo>
                    <a:pt x="200" y="303"/>
                  </a:lnTo>
                  <a:lnTo>
                    <a:pt x="185" y="296"/>
                  </a:lnTo>
                  <a:lnTo>
                    <a:pt x="168" y="282"/>
                  </a:lnTo>
                  <a:lnTo>
                    <a:pt x="150" y="262"/>
                  </a:lnTo>
                  <a:lnTo>
                    <a:pt x="133" y="240"/>
                  </a:lnTo>
                  <a:lnTo>
                    <a:pt x="117" y="217"/>
                  </a:lnTo>
                  <a:lnTo>
                    <a:pt x="104" y="198"/>
                  </a:lnTo>
                  <a:lnTo>
                    <a:pt x="94" y="182"/>
                  </a:lnTo>
                  <a:lnTo>
                    <a:pt x="102" y="198"/>
                  </a:lnTo>
                  <a:lnTo>
                    <a:pt x="112" y="219"/>
                  </a:lnTo>
                  <a:lnTo>
                    <a:pt x="125" y="240"/>
                  </a:lnTo>
                  <a:lnTo>
                    <a:pt x="140" y="265"/>
                  </a:lnTo>
                  <a:lnTo>
                    <a:pt x="154" y="286"/>
                  </a:lnTo>
                  <a:lnTo>
                    <a:pt x="167" y="307"/>
                  </a:lnTo>
                  <a:lnTo>
                    <a:pt x="179" y="323"/>
                  </a:lnTo>
                  <a:lnTo>
                    <a:pt x="188" y="335"/>
                  </a:lnTo>
                  <a:lnTo>
                    <a:pt x="195" y="341"/>
                  </a:lnTo>
                  <a:lnTo>
                    <a:pt x="205" y="346"/>
                  </a:lnTo>
                  <a:lnTo>
                    <a:pt x="218" y="351"/>
                  </a:lnTo>
                  <a:lnTo>
                    <a:pt x="233" y="356"/>
                  </a:lnTo>
                  <a:lnTo>
                    <a:pt x="248" y="358"/>
                  </a:lnTo>
                  <a:lnTo>
                    <a:pt x="262" y="360"/>
                  </a:lnTo>
                  <a:lnTo>
                    <a:pt x="274" y="359"/>
                  </a:lnTo>
                  <a:lnTo>
                    <a:pt x="285" y="357"/>
                  </a:lnTo>
                  <a:lnTo>
                    <a:pt x="293" y="350"/>
                  </a:lnTo>
                  <a:lnTo>
                    <a:pt x="300" y="341"/>
                  </a:lnTo>
                  <a:lnTo>
                    <a:pt x="305" y="329"/>
                  </a:lnTo>
                  <a:lnTo>
                    <a:pt x="308" y="315"/>
                  </a:lnTo>
                  <a:lnTo>
                    <a:pt x="305" y="301"/>
                  </a:lnTo>
                  <a:lnTo>
                    <a:pt x="299" y="290"/>
                  </a:lnTo>
                  <a:lnTo>
                    <a:pt x="285" y="280"/>
                  </a:lnTo>
                  <a:lnTo>
                    <a:pt x="263" y="272"/>
                  </a:lnTo>
                  <a:lnTo>
                    <a:pt x="263" y="245"/>
                  </a:lnTo>
                  <a:lnTo>
                    <a:pt x="262" y="219"/>
                  </a:lnTo>
                  <a:lnTo>
                    <a:pt x="259" y="194"/>
                  </a:lnTo>
                  <a:lnTo>
                    <a:pt x="257" y="1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6338880" y="3625560"/>
              <a:ext cx="17280" cy="19080"/>
            </a:xfrm>
            <a:custGeom>
              <a:avLst/>
              <a:gdLst/>
              <a:ahLst/>
              <a:rect l="l" t="t" r="r" b="b"/>
              <a:pathLst>
                <a:path w="23" h="24">
                  <a:moveTo>
                    <a:pt x="11" y="24"/>
                  </a:moveTo>
                  <a:lnTo>
                    <a:pt x="16" y="23"/>
                  </a:lnTo>
                  <a:lnTo>
                    <a:pt x="19" y="21"/>
                  </a:lnTo>
                  <a:lnTo>
                    <a:pt x="22" y="17"/>
                  </a:lnTo>
                  <a:lnTo>
                    <a:pt x="23" y="13"/>
                  </a:lnTo>
                  <a:lnTo>
                    <a:pt x="22" y="8"/>
                  </a:lnTo>
                  <a:lnTo>
                    <a:pt x="19" y="4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7" y="23"/>
                  </a:lnTo>
                  <a:lnTo>
                    <a:pt x="1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341400" y="362880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3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5989680" y="3671640"/>
              <a:ext cx="341280" cy="271440"/>
            </a:xfrm>
            <a:custGeom>
              <a:avLst/>
              <a:gdLst/>
              <a:ahLst/>
              <a:rect l="l" t="t" r="r" b="b"/>
              <a:pathLst>
                <a:path w="429" h="343">
                  <a:moveTo>
                    <a:pt x="187" y="312"/>
                  </a:moveTo>
                  <a:lnTo>
                    <a:pt x="185" y="319"/>
                  </a:lnTo>
                  <a:lnTo>
                    <a:pt x="185" y="329"/>
                  </a:lnTo>
                  <a:lnTo>
                    <a:pt x="184" y="337"/>
                  </a:lnTo>
                  <a:lnTo>
                    <a:pt x="182" y="343"/>
                  </a:lnTo>
                  <a:lnTo>
                    <a:pt x="179" y="310"/>
                  </a:lnTo>
                  <a:lnTo>
                    <a:pt x="179" y="343"/>
                  </a:lnTo>
                  <a:lnTo>
                    <a:pt x="175" y="338"/>
                  </a:lnTo>
                  <a:lnTo>
                    <a:pt x="174" y="329"/>
                  </a:lnTo>
                  <a:lnTo>
                    <a:pt x="172" y="319"/>
                  </a:lnTo>
                  <a:lnTo>
                    <a:pt x="172" y="308"/>
                  </a:lnTo>
                  <a:lnTo>
                    <a:pt x="170" y="305"/>
                  </a:lnTo>
                  <a:lnTo>
                    <a:pt x="169" y="299"/>
                  </a:lnTo>
                  <a:lnTo>
                    <a:pt x="167" y="292"/>
                  </a:lnTo>
                  <a:lnTo>
                    <a:pt x="166" y="285"/>
                  </a:lnTo>
                  <a:lnTo>
                    <a:pt x="166" y="276"/>
                  </a:lnTo>
                  <a:lnTo>
                    <a:pt x="169" y="269"/>
                  </a:lnTo>
                  <a:lnTo>
                    <a:pt x="173" y="265"/>
                  </a:lnTo>
                  <a:lnTo>
                    <a:pt x="179" y="261"/>
                  </a:lnTo>
                  <a:lnTo>
                    <a:pt x="184" y="259"/>
                  </a:lnTo>
                  <a:lnTo>
                    <a:pt x="190" y="257"/>
                  </a:lnTo>
                  <a:lnTo>
                    <a:pt x="196" y="254"/>
                  </a:lnTo>
                  <a:lnTo>
                    <a:pt x="199" y="253"/>
                  </a:lnTo>
                  <a:lnTo>
                    <a:pt x="200" y="246"/>
                  </a:lnTo>
                  <a:lnTo>
                    <a:pt x="197" y="239"/>
                  </a:lnTo>
                  <a:lnTo>
                    <a:pt x="190" y="234"/>
                  </a:lnTo>
                  <a:lnTo>
                    <a:pt x="182" y="228"/>
                  </a:lnTo>
                  <a:lnTo>
                    <a:pt x="176" y="228"/>
                  </a:lnTo>
                  <a:lnTo>
                    <a:pt x="169" y="229"/>
                  </a:lnTo>
                  <a:lnTo>
                    <a:pt x="161" y="229"/>
                  </a:lnTo>
                  <a:lnTo>
                    <a:pt x="152" y="228"/>
                  </a:lnTo>
                  <a:lnTo>
                    <a:pt x="144" y="228"/>
                  </a:lnTo>
                  <a:lnTo>
                    <a:pt x="135" y="228"/>
                  </a:lnTo>
                  <a:lnTo>
                    <a:pt x="128" y="227"/>
                  </a:lnTo>
                  <a:lnTo>
                    <a:pt x="122" y="226"/>
                  </a:lnTo>
                  <a:lnTo>
                    <a:pt x="122" y="229"/>
                  </a:lnTo>
                  <a:lnTo>
                    <a:pt x="122" y="235"/>
                  </a:lnTo>
                  <a:lnTo>
                    <a:pt x="121" y="239"/>
                  </a:lnTo>
                  <a:lnTo>
                    <a:pt x="120" y="245"/>
                  </a:lnTo>
                  <a:lnTo>
                    <a:pt x="112" y="255"/>
                  </a:lnTo>
                  <a:lnTo>
                    <a:pt x="99" y="267"/>
                  </a:lnTo>
                  <a:lnTo>
                    <a:pt x="82" y="280"/>
                  </a:lnTo>
                  <a:lnTo>
                    <a:pt x="63" y="291"/>
                  </a:lnTo>
                  <a:lnTo>
                    <a:pt x="45" y="302"/>
                  </a:lnTo>
                  <a:lnTo>
                    <a:pt x="27" y="311"/>
                  </a:lnTo>
                  <a:lnTo>
                    <a:pt x="12" y="318"/>
                  </a:lnTo>
                  <a:lnTo>
                    <a:pt x="0" y="322"/>
                  </a:lnTo>
                  <a:lnTo>
                    <a:pt x="2" y="318"/>
                  </a:lnTo>
                  <a:lnTo>
                    <a:pt x="5" y="312"/>
                  </a:lnTo>
                  <a:lnTo>
                    <a:pt x="7" y="304"/>
                  </a:lnTo>
                  <a:lnTo>
                    <a:pt x="12" y="295"/>
                  </a:lnTo>
                  <a:lnTo>
                    <a:pt x="17" y="284"/>
                  </a:lnTo>
                  <a:lnTo>
                    <a:pt x="24" y="272"/>
                  </a:lnTo>
                  <a:lnTo>
                    <a:pt x="35" y="258"/>
                  </a:lnTo>
                  <a:lnTo>
                    <a:pt x="47" y="242"/>
                  </a:lnTo>
                  <a:lnTo>
                    <a:pt x="60" y="228"/>
                  </a:lnTo>
                  <a:lnTo>
                    <a:pt x="71" y="218"/>
                  </a:lnTo>
                  <a:lnTo>
                    <a:pt x="81" y="211"/>
                  </a:lnTo>
                  <a:lnTo>
                    <a:pt x="90" y="206"/>
                  </a:lnTo>
                  <a:lnTo>
                    <a:pt x="97" y="205"/>
                  </a:lnTo>
                  <a:lnTo>
                    <a:pt x="104" y="204"/>
                  </a:lnTo>
                  <a:lnTo>
                    <a:pt x="111" y="203"/>
                  </a:lnTo>
                  <a:lnTo>
                    <a:pt x="116" y="203"/>
                  </a:lnTo>
                  <a:lnTo>
                    <a:pt x="124" y="203"/>
                  </a:lnTo>
                  <a:lnTo>
                    <a:pt x="136" y="201"/>
                  </a:lnTo>
                  <a:lnTo>
                    <a:pt x="150" y="201"/>
                  </a:lnTo>
                  <a:lnTo>
                    <a:pt x="166" y="201"/>
                  </a:lnTo>
                  <a:lnTo>
                    <a:pt x="182" y="201"/>
                  </a:lnTo>
                  <a:lnTo>
                    <a:pt x="198" y="203"/>
                  </a:lnTo>
                  <a:lnTo>
                    <a:pt x="214" y="204"/>
                  </a:lnTo>
                  <a:lnTo>
                    <a:pt x="228" y="205"/>
                  </a:lnTo>
                  <a:lnTo>
                    <a:pt x="236" y="198"/>
                  </a:lnTo>
                  <a:lnTo>
                    <a:pt x="242" y="182"/>
                  </a:lnTo>
                  <a:lnTo>
                    <a:pt x="244" y="156"/>
                  </a:lnTo>
                  <a:lnTo>
                    <a:pt x="242" y="122"/>
                  </a:lnTo>
                  <a:lnTo>
                    <a:pt x="241" y="105"/>
                  </a:lnTo>
                  <a:lnTo>
                    <a:pt x="243" y="91"/>
                  </a:lnTo>
                  <a:lnTo>
                    <a:pt x="248" y="80"/>
                  </a:lnTo>
                  <a:lnTo>
                    <a:pt x="252" y="72"/>
                  </a:lnTo>
                  <a:lnTo>
                    <a:pt x="259" y="67"/>
                  </a:lnTo>
                  <a:lnTo>
                    <a:pt x="265" y="62"/>
                  </a:lnTo>
                  <a:lnTo>
                    <a:pt x="272" y="60"/>
                  </a:lnTo>
                  <a:lnTo>
                    <a:pt x="276" y="57"/>
                  </a:lnTo>
                  <a:lnTo>
                    <a:pt x="284" y="54"/>
                  </a:lnTo>
                  <a:lnTo>
                    <a:pt x="297" y="49"/>
                  </a:lnTo>
                  <a:lnTo>
                    <a:pt x="315" y="41"/>
                  </a:lnTo>
                  <a:lnTo>
                    <a:pt x="336" y="33"/>
                  </a:lnTo>
                  <a:lnTo>
                    <a:pt x="359" y="24"/>
                  </a:lnTo>
                  <a:lnTo>
                    <a:pt x="383" y="16"/>
                  </a:lnTo>
                  <a:lnTo>
                    <a:pt x="408" y="7"/>
                  </a:lnTo>
                  <a:lnTo>
                    <a:pt x="429" y="0"/>
                  </a:lnTo>
                  <a:lnTo>
                    <a:pt x="425" y="10"/>
                  </a:lnTo>
                  <a:lnTo>
                    <a:pt x="416" y="24"/>
                  </a:lnTo>
                  <a:lnTo>
                    <a:pt x="402" y="40"/>
                  </a:lnTo>
                  <a:lnTo>
                    <a:pt x="386" y="57"/>
                  </a:lnTo>
                  <a:lnTo>
                    <a:pt x="368" y="74"/>
                  </a:lnTo>
                  <a:lnTo>
                    <a:pt x="353" y="89"/>
                  </a:lnTo>
                  <a:lnTo>
                    <a:pt x="341" y="100"/>
                  </a:lnTo>
                  <a:lnTo>
                    <a:pt x="333" y="107"/>
                  </a:lnTo>
                  <a:lnTo>
                    <a:pt x="333" y="124"/>
                  </a:lnTo>
                  <a:lnTo>
                    <a:pt x="329" y="158"/>
                  </a:lnTo>
                  <a:lnTo>
                    <a:pt x="326" y="194"/>
                  </a:lnTo>
                  <a:lnTo>
                    <a:pt x="321" y="222"/>
                  </a:lnTo>
                  <a:lnTo>
                    <a:pt x="325" y="224"/>
                  </a:lnTo>
                  <a:lnTo>
                    <a:pt x="329" y="227"/>
                  </a:lnTo>
                  <a:lnTo>
                    <a:pt x="334" y="229"/>
                  </a:lnTo>
                  <a:lnTo>
                    <a:pt x="338" y="232"/>
                  </a:lnTo>
                  <a:lnTo>
                    <a:pt x="344" y="232"/>
                  </a:lnTo>
                  <a:lnTo>
                    <a:pt x="352" y="231"/>
                  </a:lnTo>
                  <a:lnTo>
                    <a:pt x="360" y="230"/>
                  </a:lnTo>
                  <a:lnTo>
                    <a:pt x="370" y="228"/>
                  </a:lnTo>
                  <a:lnTo>
                    <a:pt x="379" y="226"/>
                  </a:lnTo>
                  <a:lnTo>
                    <a:pt x="389" y="223"/>
                  </a:lnTo>
                  <a:lnTo>
                    <a:pt x="399" y="220"/>
                  </a:lnTo>
                  <a:lnTo>
                    <a:pt x="410" y="216"/>
                  </a:lnTo>
                  <a:lnTo>
                    <a:pt x="411" y="221"/>
                  </a:lnTo>
                  <a:lnTo>
                    <a:pt x="408" y="227"/>
                  </a:lnTo>
                  <a:lnTo>
                    <a:pt x="403" y="232"/>
                  </a:lnTo>
                  <a:lnTo>
                    <a:pt x="398" y="238"/>
                  </a:lnTo>
                  <a:lnTo>
                    <a:pt x="398" y="243"/>
                  </a:lnTo>
                  <a:lnTo>
                    <a:pt x="398" y="245"/>
                  </a:lnTo>
                  <a:lnTo>
                    <a:pt x="396" y="247"/>
                  </a:lnTo>
                  <a:lnTo>
                    <a:pt x="391" y="249"/>
                  </a:lnTo>
                  <a:lnTo>
                    <a:pt x="390" y="252"/>
                  </a:lnTo>
                  <a:lnTo>
                    <a:pt x="388" y="254"/>
                  </a:lnTo>
                  <a:lnTo>
                    <a:pt x="385" y="255"/>
                  </a:lnTo>
                  <a:lnTo>
                    <a:pt x="379" y="257"/>
                  </a:lnTo>
                  <a:lnTo>
                    <a:pt x="378" y="258"/>
                  </a:lnTo>
                  <a:lnTo>
                    <a:pt x="375" y="260"/>
                  </a:lnTo>
                  <a:lnTo>
                    <a:pt x="371" y="262"/>
                  </a:lnTo>
                  <a:lnTo>
                    <a:pt x="366" y="265"/>
                  </a:lnTo>
                  <a:lnTo>
                    <a:pt x="360" y="267"/>
                  </a:lnTo>
                  <a:lnTo>
                    <a:pt x="353" y="269"/>
                  </a:lnTo>
                  <a:lnTo>
                    <a:pt x="348" y="272"/>
                  </a:lnTo>
                  <a:lnTo>
                    <a:pt x="342" y="273"/>
                  </a:lnTo>
                  <a:lnTo>
                    <a:pt x="345" y="279"/>
                  </a:lnTo>
                  <a:lnTo>
                    <a:pt x="352" y="288"/>
                  </a:lnTo>
                  <a:lnTo>
                    <a:pt x="360" y="296"/>
                  </a:lnTo>
                  <a:lnTo>
                    <a:pt x="366" y="303"/>
                  </a:lnTo>
                  <a:lnTo>
                    <a:pt x="368" y="303"/>
                  </a:lnTo>
                  <a:lnTo>
                    <a:pt x="371" y="304"/>
                  </a:lnTo>
                  <a:lnTo>
                    <a:pt x="373" y="304"/>
                  </a:lnTo>
                  <a:lnTo>
                    <a:pt x="376" y="304"/>
                  </a:lnTo>
                  <a:lnTo>
                    <a:pt x="380" y="306"/>
                  </a:lnTo>
                  <a:lnTo>
                    <a:pt x="383" y="308"/>
                  </a:lnTo>
                  <a:lnTo>
                    <a:pt x="387" y="311"/>
                  </a:lnTo>
                  <a:lnTo>
                    <a:pt x="390" y="314"/>
                  </a:lnTo>
                  <a:lnTo>
                    <a:pt x="385" y="313"/>
                  </a:lnTo>
                  <a:lnTo>
                    <a:pt x="375" y="312"/>
                  </a:lnTo>
                  <a:lnTo>
                    <a:pt x="367" y="311"/>
                  </a:lnTo>
                  <a:lnTo>
                    <a:pt x="364" y="308"/>
                  </a:lnTo>
                  <a:lnTo>
                    <a:pt x="359" y="303"/>
                  </a:lnTo>
                  <a:lnTo>
                    <a:pt x="351" y="293"/>
                  </a:lnTo>
                  <a:lnTo>
                    <a:pt x="343" y="283"/>
                  </a:lnTo>
                  <a:lnTo>
                    <a:pt x="336" y="275"/>
                  </a:lnTo>
                  <a:lnTo>
                    <a:pt x="334" y="275"/>
                  </a:lnTo>
                  <a:lnTo>
                    <a:pt x="330" y="275"/>
                  </a:lnTo>
                  <a:lnTo>
                    <a:pt x="327" y="275"/>
                  </a:lnTo>
                  <a:lnTo>
                    <a:pt x="324" y="274"/>
                  </a:lnTo>
                  <a:lnTo>
                    <a:pt x="324" y="277"/>
                  </a:lnTo>
                  <a:lnTo>
                    <a:pt x="324" y="281"/>
                  </a:lnTo>
                  <a:lnTo>
                    <a:pt x="325" y="284"/>
                  </a:lnTo>
                  <a:lnTo>
                    <a:pt x="325" y="287"/>
                  </a:lnTo>
                  <a:lnTo>
                    <a:pt x="329" y="291"/>
                  </a:lnTo>
                  <a:lnTo>
                    <a:pt x="338" y="298"/>
                  </a:lnTo>
                  <a:lnTo>
                    <a:pt x="349" y="306"/>
                  </a:lnTo>
                  <a:lnTo>
                    <a:pt x="356" y="311"/>
                  </a:lnTo>
                  <a:lnTo>
                    <a:pt x="360" y="313"/>
                  </a:lnTo>
                  <a:lnTo>
                    <a:pt x="363" y="313"/>
                  </a:lnTo>
                  <a:lnTo>
                    <a:pt x="365" y="313"/>
                  </a:lnTo>
                  <a:lnTo>
                    <a:pt x="370" y="313"/>
                  </a:lnTo>
                  <a:lnTo>
                    <a:pt x="372" y="314"/>
                  </a:lnTo>
                  <a:lnTo>
                    <a:pt x="376" y="315"/>
                  </a:lnTo>
                  <a:lnTo>
                    <a:pt x="381" y="317"/>
                  </a:lnTo>
                  <a:lnTo>
                    <a:pt x="386" y="319"/>
                  </a:lnTo>
                  <a:lnTo>
                    <a:pt x="380" y="319"/>
                  </a:lnTo>
                  <a:lnTo>
                    <a:pt x="372" y="319"/>
                  </a:lnTo>
                  <a:lnTo>
                    <a:pt x="364" y="319"/>
                  </a:lnTo>
                  <a:lnTo>
                    <a:pt x="358" y="319"/>
                  </a:lnTo>
                  <a:lnTo>
                    <a:pt x="355" y="317"/>
                  </a:lnTo>
                  <a:lnTo>
                    <a:pt x="350" y="312"/>
                  </a:lnTo>
                  <a:lnTo>
                    <a:pt x="343" y="307"/>
                  </a:lnTo>
                  <a:lnTo>
                    <a:pt x="336" y="303"/>
                  </a:lnTo>
                  <a:lnTo>
                    <a:pt x="328" y="297"/>
                  </a:lnTo>
                  <a:lnTo>
                    <a:pt x="322" y="291"/>
                  </a:lnTo>
                  <a:lnTo>
                    <a:pt x="317" y="287"/>
                  </a:lnTo>
                  <a:lnTo>
                    <a:pt x="312" y="283"/>
                  </a:lnTo>
                  <a:lnTo>
                    <a:pt x="305" y="283"/>
                  </a:lnTo>
                  <a:lnTo>
                    <a:pt x="294" y="283"/>
                  </a:lnTo>
                  <a:lnTo>
                    <a:pt x="280" y="285"/>
                  </a:lnTo>
                  <a:lnTo>
                    <a:pt x="264" y="287"/>
                  </a:lnTo>
                  <a:lnTo>
                    <a:pt x="248" y="289"/>
                  </a:lnTo>
                  <a:lnTo>
                    <a:pt x="231" y="290"/>
                  </a:lnTo>
                  <a:lnTo>
                    <a:pt x="216" y="292"/>
                  </a:lnTo>
                  <a:lnTo>
                    <a:pt x="205" y="292"/>
                  </a:lnTo>
                  <a:lnTo>
                    <a:pt x="203" y="297"/>
                  </a:lnTo>
                  <a:lnTo>
                    <a:pt x="198" y="302"/>
                  </a:lnTo>
                  <a:lnTo>
                    <a:pt x="192" y="307"/>
                  </a:lnTo>
                  <a:lnTo>
                    <a:pt x="187" y="3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005160" y="4008240"/>
              <a:ext cx="401400" cy="284040"/>
            </a:xfrm>
            <a:custGeom>
              <a:avLst/>
              <a:gdLst/>
              <a:ahLst/>
              <a:rect l="l" t="t" r="r" b="b"/>
              <a:pathLst>
                <a:path w="506" h="358">
                  <a:moveTo>
                    <a:pt x="0" y="50"/>
                  </a:moveTo>
                  <a:lnTo>
                    <a:pt x="9" y="56"/>
                  </a:lnTo>
                  <a:lnTo>
                    <a:pt x="21" y="64"/>
                  </a:lnTo>
                  <a:lnTo>
                    <a:pt x="36" y="73"/>
                  </a:lnTo>
                  <a:lnTo>
                    <a:pt x="55" y="83"/>
                  </a:lnTo>
                  <a:lnTo>
                    <a:pt x="73" y="92"/>
                  </a:lnTo>
                  <a:lnTo>
                    <a:pt x="91" y="100"/>
                  </a:lnTo>
                  <a:lnTo>
                    <a:pt x="108" y="108"/>
                  </a:lnTo>
                  <a:lnTo>
                    <a:pt x="122" y="113"/>
                  </a:lnTo>
                  <a:lnTo>
                    <a:pt x="138" y="119"/>
                  </a:lnTo>
                  <a:lnTo>
                    <a:pt x="158" y="131"/>
                  </a:lnTo>
                  <a:lnTo>
                    <a:pt x="181" y="147"/>
                  </a:lnTo>
                  <a:lnTo>
                    <a:pt x="206" y="167"/>
                  </a:lnTo>
                  <a:lnTo>
                    <a:pt x="229" y="189"/>
                  </a:lnTo>
                  <a:lnTo>
                    <a:pt x="248" y="210"/>
                  </a:lnTo>
                  <a:lnTo>
                    <a:pt x="263" y="233"/>
                  </a:lnTo>
                  <a:lnTo>
                    <a:pt x="271" y="255"/>
                  </a:lnTo>
                  <a:lnTo>
                    <a:pt x="278" y="233"/>
                  </a:lnTo>
                  <a:lnTo>
                    <a:pt x="285" y="216"/>
                  </a:lnTo>
                  <a:lnTo>
                    <a:pt x="291" y="200"/>
                  </a:lnTo>
                  <a:lnTo>
                    <a:pt x="295" y="189"/>
                  </a:lnTo>
                  <a:lnTo>
                    <a:pt x="299" y="178"/>
                  </a:lnTo>
                  <a:lnTo>
                    <a:pt x="302" y="170"/>
                  </a:lnTo>
                  <a:lnTo>
                    <a:pt x="305" y="164"/>
                  </a:lnTo>
                  <a:lnTo>
                    <a:pt x="306" y="160"/>
                  </a:lnTo>
                  <a:lnTo>
                    <a:pt x="308" y="155"/>
                  </a:lnTo>
                  <a:lnTo>
                    <a:pt x="310" y="149"/>
                  </a:lnTo>
                  <a:lnTo>
                    <a:pt x="315" y="142"/>
                  </a:lnTo>
                  <a:lnTo>
                    <a:pt x="321" y="134"/>
                  </a:lnTo>
                  <a:lnTo>
                    <a:pt x="329" y="125"/>
                  </a:lnTo>
                  <a:lnTo>
                    <a:pt x="339" y="116"/>
                  </a:lnTo>
                  <a:lnTo>
                    <a:pt x="352" y="108"/>
                  </a:lnTo>
                  <a:lnTo>
                    <a:pt x="367" y="99"/>
                  </a:lnTo>
                  <a:lnTo>
                    <a:pt x="385" y="90"/>
                  </a:lnTo>
                  <a:lnTo>
                    <a:pt x="405" y="78"/>
                  </a:lnTo>
                  <a:lnTo>
                    <a:pt x="427" y="65"/>
                  </a:lnTo>
                  <a:lnTo>
                    <a:pt x="447" y="53"/>
                  </a:lnTo>
                  <a:lnTo>
                    <a:pt x="467" y="40"/>
                  </a:lnTo>
                  <a:lnTo>
                    <a:pt x="484" y="26"/>
                  </a:lnTo>
                  <a:lnTo>
                    <a:pt x="498" y="12"/>
                  </a:lnTo>
                  <a:lnTo>
                    <a:pt x="506" y="0"/>
                  </a:lnTo>
                  <a:lnTo>
                    <a:pt x="497" y="25"/>
                  </a:lnTo>
                  <a:lnTo>
                    <a:pt x="481" y="53"/>
                  </a:lnTo>
                  <a:lnTo>
                    <a:pt x="460" y="79"/>
                  </a:lnTo>
                  <a:lnTo>
                    <a:pt x="437" y="106"/>
                  </a:lnTo>
                  <a:lnTo>
                    <a:pt x="414" y="130"/>
                  </a:lnTo>
                  <a:lnTo>
                    <a:pt x="392" y="149"/>
                  </a:lnTo>
                  <a:lnTo>
                    <a:pt x="375" y="164"/>
                  </a:lnTo>
                  <a:lnTo>
                    <a:pt x="363" y="174"/>
                  </a:lnTo>
                  <a:lnTo>
                    <a:pt x="361" y="189"/>
                  </a:lnTo>
                  <a:lnTo>
                    <a:pt x="358" y="206"/>
                  </a:lnTo>
                  <a:lnTo>
                    <a:pt x="353" y="224"/>
                  </a:lnTo>
                  <a:lnTo>
                    <a:pt x="347" y="244"/>
                  </a:lnTo>
                  <a:lnTo>
                    <a:pt x="340" y="262"/>
                  </a:lnTo>
                  <a:lnTo>
                    <a:pt x="335" y="278"/>
                  </a:lnTo>
                  <a:lnTo>
                    <a:pt x="329" y="291"/>
                  </a:lnTo>
                  <a:lnTo>
                    <a:pt x="323" y="299"/>
                  </a:lnTo>
                  <a:lnTo>
                    <a:pt x="331" y="309"/>
                  </a:lnTo>
                  <a:lnTo>
                    <a:pt x="341" y="319"/>
                  </a:lnTo>
                  <a:lnTo>
                    <a:pt x="354" y="328"/>
                  </a:lnTo>
                  <a:lnTo>
                    <a:pt x="367" y="336"/>
                  </a:lnTo>
                  <a:lnTo>
                    <a:pt x="381" y="343"/>
                  </a:lnTo>
                  <a:lnTo>
                    <a:pt x="393" y="349"/>
                  </a:lnTo>
                  <a:lnTo>
                    <a:pt x="405" y="352"/>
                  </a:lnTo>
                  <a:lnTo>
                    <a:pt x="414" y="353"/>
                  </a:lnTo>
                  <a:lnTo>
                    <a:pt x="399" y="357"/>
                  </a:lnTo>
                  <a:lnTo>
                    <a:pt x="384" y="358"/>
                  </a:lnTo>
                  <a:lnTo>
                    <a:pt x="368" y="357"/>
                  </a:lnTo>
                  <a:lnTo>
                    <a:pt x="353" y="354"/>
                  </a:lnTo>
                  <a:lnTo>
                    <a:pt x="339" y="352"/>
                  </a:lnTo>
                  <a:lnTo>
                    <a:pt x="326" y="349"/>
                  </a:lnTo>
                  <a:lnTo>
                    <a:pt x="316" y="345"/>
                  </a:lnTo>
                  <a:lnTo>
                    <a:pt x="309" y="344"/>
                  </a:lnTo>
                  <a:lnTo>
                    <a:pt x="293" y="345"/>
                  </a:lnTo>
                  <a:lnTo>
                    <a:pt x="278" y="345"/>
                  </a:lnTo>
                  <a:lnTo>
                    <a:pt x="263" y="344"/>
                  </a:lnTo>
                  <a:lnTo>
                    <a:pt x="249" y="342"/>
                  </a:lnTo>
                  <a:lnTo>
                    <a:pt x="237" y="338"/>
                  </a:lnTo>
                  <a:lnTo>
                    <a:pt x="226" y="331"/>
                  </a:lnTo>
                  <a:lnTo>
                    <a:pt x="218" y="322"/>
                  </a:lnTo>
                  <a:lnTo>
                    <a:pt x="214" y="309"/>
                  </a:lnTo>
                  <a:lnTo>
                    <a:pt x="207" y="298"/>
                  </a:lnTo>
                  <a:lnTo>
                    <a:pt x="196" y="296"/>
                  </a:lnTo>
                  <a:lnTo>
                    <a:pt x="187" y="303"/>
                  </a:lnTo>
                  <a:lnTo>
                    <a:pt x="185" y="320"/>
                  </a:lnTo>
                  <a:lnTo>
                    <a:pt x="179" y="312"/>
                  </a:lnTo>
                  <a:lnTo>
                    <a:pt x="176" y="304"/>
                  </a:lnTo>
                  <a:lnTo>
                    <a:pt x="177" y="296"/>
                  </a:lnTo>
                  <a:lnTo>
                    <a:pt x="181" y="289"/>
                  </a:lnTo>
                  <a:lnTo>
                    <a:pt x="180" y="281"/>
                  </a:lnTo>
                  <a:lnTo>
                    <a:pt x="180" y="270"/>
                  </a:lnTo>
                  <a:lnTo>
                    <a:pt x="180" y="260"/>
                  </a:lnTo>
                  <a:lnTo>
                    <a:pt x="181" y="251"/>
                  </a:lnTo>
                  <a:lnTo>
                    <a:pt x="185" y="243"/>
                  </a:lnTo>
                  <a:lnTo>
                    <a:pt x="190" y="237"/>
                  </a:lnTo>
                  <a:lnTo>
                    <a:pt x="198" y="236"/>
                  </a:lnTo>
                  <a:lnTo>
                    <a:pt x="209" y="238"/>
                  </a:lnTo>
                  <a:lnTo>
                    <a:pt x="199" y="224"/>
                  </a:lnTo>
                  <a:lnTo>
                    <a:pt x="187" y="208"/>
                  </a:lnTo>
                  <a:lnTo>
                    <a:pt x="173" y="191"/>
                  </a:lnTo>
                  <a:lnTo>
                    <a:pt x="160" y="175"/>
                  </a:lnTo>
                  <a:lnTo>
                    <a:pt x="145" y="159"/>
                  </a:lnTo>
                  <a:lnTo>
                    <a:pt x="132" y="145"/>
                  </a:lnTo>
                  <a:lnTo>
                    <a:pt x="120" y="134"/>
                  </a:lnTo>
                  <a:lnTo>
                    <a:pt x="110" y="129"/>
                  </a:lnTo>
                  <a:lnTo>
                    <a:pt x="99" y="124"/>
                  </a:lnTo>
                  <a:lnTo>
                    <a:pt x="82" y="118"/>
                  </a:lnTo>
                  <a:lnTo>
                    <a:pt x="64" y="113"/>
                  </a:lnTo>
                  <a:lnTo>
                    <a:pt x="45" y="103"/>
                  </a:lnTo>
                  <a:lnTo>
                    <a:pt x="27" y="94"/>
                  </a:lnTo>
                  <a:lnTo>
                    <a:pt x="12" y="81"/>
                  </a:lnTo>
                  <a:lnTo>
                    <a:pt x="3" y="6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互动环节        畅所预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295280" y="3276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 管理能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技术人员出身的管理者最容易犯的错误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238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案  例  讨  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： 赵先生       年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      岗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公司部门经理 </a:t>
            </a:r>
            <a:br>
              <a:rPr sz="2000"/>
            </a:b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症状：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1400"/>
            </a:br>
            <a:br>
              <a:rPr sz="1400"/>
            </a:b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我在一家知名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公司兢兢业业工作几年后，新近被提拔担任一个部门的经理。开始我很开心，因为这意味着这几年的努力和业绩获得了公司的认可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可过了一段时间之后，我开始感到了一种失落。以前我在技术部门做一项具体的工作，每当完成了一天的工作之后，总有一种成就感。而现在，一天工作下来，很可能什么名堂也看不出，让我感到灰心丧气。我觉得别人不再根据我的工作来评估我了，而是根据我领导别人去完成工作的能力来评估，这让我有些力不从心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95280" y="1676160"/>
            <a:ext cx="2895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解决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600200" y="25909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沟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圆滑解决“划清界限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知已知彼 百战不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正确心态，摆好“我”的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2097360" cy="28591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5331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领导点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23880" y="1828800"/>
            <a:ext cx="137160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vert="eaVer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精确求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处理授权与监督的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宋体"/>
              </a:rPr>
              <a:t>评估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981080"/>
            <a:ext cx="3124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05320" y="2819520"/>
            <a:ext cx="2361960" cy="10666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105520" y="213372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9880" y="3886200"/>
            <a:ext cx="1752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228600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862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00600" y="205740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76920" y="342900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2590920"/>
            <a:ext cx="3124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9880" y="2971800"/>
            <a:ext cx="1676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决方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2209680"/>
            <a:ext cx="2362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3962520"/>
            <a:ext cx="2514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心     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6248520" y="2438280"/>
            <a:ext cx="1828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专  业  技  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85840" y="2289240"/>
            <a:ext cx="3848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活到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学到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333333"/>
                </a:solidFill>
                <a:latin typeface="宋体"/>
              </a:rPr>
              <a:t>改造到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371600" y="2971800"/>
            <a:ext cx="2971800" cy="29592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712320" y="1751400"/>
            <a:ext cx="3484440" cy="1927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ff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5048e"/>
                </a:solidFill>
                <a:latin typeface="Verdana"/>
                <a:ea typeface="华文行楷"/>
              </a:rPr>
              <a:t>我要飞的更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5048e"/>
                </a:solidFill>
                <a:latin typeface="Verdana"/>
                <a:ea typeface="华文行楷"/>
              </a:rPr>
              <a:t>                              </a:t>
            </a:r>
            <a:r>
              <a:rPr b="0" lang="zh-CN" sz="2000" spc="-1" strike="noStrike">
                <a:solidFill>
                  <a:srgbClr val="25048e"/>
                </a:solidFill>
                <a:latin typeface="Verdana"/>
                <a:ea typeface="华文行楷"/>
              </a:rPr>
              <a:t>--</a:t>
            </a:r>
            <a:r>
              <a:rPr b="0" lang="zh-CN" sz="2000" spc="-1" strike="noStrike">
                <a:solidFill>
                  <a:srgbClr val="25048e"/>
                </a:solidFill>
                <a:latin typeface="Verdana"/>
                <a:ea typeface="华文行楷"/>
              </a:rPr>
              <a:t>与君共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4419720"/>
            <a:ext cx="3733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成长三要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自我职业生涯规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能力素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专业技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410080" y="2438280"/>
            <a:ext cx="3048120" cy="3429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6576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成长三要素</a:t>
            </a:r>
            <a:r>
              <a:rPr b="1" lang="zh-CN" sz="1800" spc="-1" strike="noStrike">
                <a:solidFill>
                  <a:srgbClr val="993300"/>
                </a:solidFill>
                <a:latin typeface="Times New Roman"/>
              </a:rPr>
              <a:t>比例图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514600"/>
          <a:ext cx="7947000" cy="35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14600"/>
                    <a:ext cx="7947000" cy="35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自我职业生涯规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2666880"/>
            <a:ext cx="21337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短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长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943600" y="2590560"/>
            <a:ext cx="22096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行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时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用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连续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3352680"/>
            <a:ext cx="914400" cy="914400"/>
          </a:xfrm>
          <a:prstGeom prst="plus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320" y="3123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</a:rPr>
              <a:t>能力素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 rot="20899200">
            <a:off x="4952880" y="2361960"/>
            <a:ext cx="1752840" cy="1752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1596600"/>
            <a:ext cx="807732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Engine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技术工程师工作职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务名称：技术工程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接上级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项目经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接下级：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职工作：负责公司产品开发工作及项目售前、售后技术支持工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2743200"/>
            <a:ext cx="3124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72680" y="1596600"/>
            <a:ext cx="8077320" cy="53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Engine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21337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作责任：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已确立新产品开发项目的本岗位技术开发工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协助相关部门确定新产品市场开发方向的工作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收集资料新产品、新技术方面的最新技术资料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产品的再开发工作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线上产品、新产品售前售后技术支持工作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协助销售部员工进行客服信息有效性分析工作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负责项目小组的其他技术突发工作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、完成上级委派的其他任务 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2743200"/>
            <a:ext cx="3124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648320" y="2743200"/>
            <a:ext cx="3124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51460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技术工程师特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505320" y="365760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73040" y="1596960"/>
            <a:ext cx="8077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Engine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895480"/>
            <a:ext cx="2057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科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量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古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关注过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收敛思维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2971800"/>
            <a:ext cx="3124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管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管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非黑即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对事不对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Manager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能 力 素 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2666880"/>
            <a:ext cx="693396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BS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项目经理工作职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职务名称：项目经理经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接上级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研发总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接下级：技术工程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本职工作：负责公司本部门管理工作及新产品开发工作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990720"/>
            <a:ext cx="2667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Engine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到</a:t>
            </a:r>
            <a:r>
              <a:rPr b="0" lang="en-US" sz="1600" spc="-1" strike="noStrike">
                <a:solidFill>
                  <a:srgbClr val="ff0000"/>
                </a:solidFill>
                <a:latin typeface="隶书"/>
                <a:ea typeface="隶书"/>
              </a:rPr>
              <a:t>Manager</a:t>
            </a:r>
            <a:r>
              <a:rPr b="0" lang="zh-CN" sz="1600" spc="-1" strike="noStrike">
                <a:solidFill>
                  <a:srgbClr val="ff0000"/>
                </a:solidFill>
                <a:latin typeface="隶书"/>
                <a:ea typeface="隶书"/>
              </a:rPr>
              <a:t>的成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3T00:31:59Z</dcterms:created>
  <dc:creator> yushuiliu</dc:creator>
  <dc:description/>
  <dc:language>en-US</dc:language>
  <cp:lastModifiedBy> yushuiliu</cp:lastModifiedBy>
  <dcterms:modified xsi:type="dcterms:W3CDTF">2007-01-13T13:36:50Z</dcterms:modified>
  <cp:revision>69</cp:revision>
  <dc:subject/>
  <dc:title>Engineer到Manager的成长                                           --人在职场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