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gif" ContentType="image/gif"/>
  <Override PartName="/ppt/media/image6.jpeg" ContentType="image/jpeg"/>
  <Override PartName="/ppt/media/image5.wmf" ContentType="image/x-wmf"/>
  <Override PartName="/ppt/media/image7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8C6-62CC-4C1C-BAFB-76FA8812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547-4ED8-437D-A629-24AD1400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FBA-53F7-4C0F-AEC0-696FDACA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833-485C-4DB9-9DA7-DC51C0C7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5A77-CC98-454A-BD7B-E335C862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6CB1-A858-49D6-88A7-AFF61B01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2380-CA2E-43A4-94F5-AFB87686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DD4D-2660-4D28-A77E-93F32A41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CFA7-B2C0-46E2-8973-4AA9B37B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C9EF-887F-4E31-A2C0-A6AF0D44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509E-6103-41E4-B69D-E57AA23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C4B-D9F4-4E11-ACCD-1ACBA5CF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7FC7-5D1B-4F7B-858A-17001D8B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6BB4-431E-4A7C-9C46-63EE896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0C2B-CB3F-44CC-89C7-023FE277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1367-49DF-4179-8BDF-CE4A869E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7D95-6594-46A0-BD8D-106431FE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D175-DAA8-43EC-8A96-5A6F1BC6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DF84-0AD3-4BD3-82FB-9971FC59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9484-2D02-4740-A174-6B86A067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2C3F-34DC-4F16-84DF-EBC6EB8E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5CF4-7FF5-4EE3-A111-9E04CC5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0BE-9AA1-4889-AD53-CB284BB6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97BC-47AB-4439-9D60-6CFD13B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CE3B-3CA6-4272-8359-35E8A093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5EEF-A5BB-47F6-A3EF-CE0485E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68BA-A3B4-43E0-8FD2-E8220887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67BE-F7FC-4636-9C91-EAFA3E78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FEF9-B2EA-4425-84B4-9321A620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891B-E0BA-4225-A3EF-99F08135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1995-D172-4DDA-92CA-E7C1A3BF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5B00-8653-4A49-80FF-91792AD3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9577C-94D6-491B-969F-A970CF12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70A-60DE-4125-A8C0-1D6280FF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091B-9B85-4DCF-A904-D9B9C4A5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030B-137A-45C9-9FF4-1C420161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A8C96-8795-42E9-88D8-A37AF66B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9916-9432-4FC8-8A3D-905C8F7A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C62A-8503-48C0-82C5-9CE738DD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5BD39-5AAE-4B3F-9F6D-E7C9D5D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38B89-B059-4D4C-B286-D6448DE7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C0A7-798D-4067-9599-1283508F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08535-FB5B-469C-876E-BD3AD7E6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994D8-105C-4FEC-8BA9-7F15A2F4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11C-C3CB-4E14-83B6-0EA5E67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63277-131C-4D8B-B381-50EDA6EA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F6F68-4390-44A9-B345-5F1D55EA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2F832-9B65-445D-AE2A-07984973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C686C-056B-4371-825C-090DA5F9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5D6A-0B6F-41BB-8FA3-C2036D19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2101-BE5B-46FA-A7A4-B99A9FF7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670D-5784-43F7-9516-C1D9A0F9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0E096-63F5-4803-9284-81D0C3E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A0214-DF4A-40AA-B96A-3E956A7A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DF9F-8A7F-4B41-A4C1-355ED6DB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793-3093-4FA6-88C9-611103E5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1C970-064F-4F40-97CE-5B1D0EF6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B5A24-2F9D-48BC-A56E-83B9CB5D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DD062-C5CB-433D-BC83-DD3EA7E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FFBBB-0506-4FF4-8D48-00CEDD8E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34F20-F815-46EA-BB99-ECE7798C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B5AFB-A219-486F-84D6-0A90FAF7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20E6B-A5CA-4DE3-AAC4-21A451D4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01676-FA9E-420D-A4AC-5D37856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828ED-CDD2-4BDE-A40F-F63A193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A0A24-CB17-41B0-991F-ED620B5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586-B5EF-4D4D-B0A2-38FED9C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2C3F3-8C5A-49F0-B36C-753DF76E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9377E-5AEA-493F-AB43-79A00CC0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7A837-B893-4EB6-B029-D86F3708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53E-19D2-40EB-892D-FE35C330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7FC-B59D-4845-8CEE-06B883BD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92A0-B553-4EDC-9C99-5AED41B342C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9F4C-A12F-43F2-8790-EE08EB2B9BA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989C-C238-4774-9C8F-90C9CB1285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95B-E154-4587-B667-13C53B0F66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AC90-8C8D-48E9-A808-84520D7D6E6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4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76C0-6728-49C3-8CCA-1D4AD1A4B1E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人在职场论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7215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从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gine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长为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132000" y="3500280"/>
            <a:ext cx="2314800" cy="17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33"/>
                </a:solidFill>
                <a:latin typeface="Times New Roman"/>
                <a:ea typeface="华文彩云"/>
              </a:rPr>
              <a:t>活动流程</a:t>
            </a: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者介绍活动主持人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HR(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自我介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每人半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网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职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职业规划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(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H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兰玉水做主题演讲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. (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Enginee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职业发展选择。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(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Engine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成长为一名优秀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Manag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成功案例。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讨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优秀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Manag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需要具备的那些素养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. 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讨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放映电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3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47" dur="1" fill="hold"/>
                                  <p:tgtEl>
                                    <p:spTgt spid="3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48" dur="1" fill="hold"/>
                                  <p:tgtEl>
                                    <p:spTgt spid="3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49" dur="1" fill="hold"/>
                                  <p:tgtEl>
                                    <p:spTgt spid="3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50" dur="1" fill="hold"/>
                                  <p:tgtEl>
                                    <p:spTgt spid="3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51" dur="1" fill="hold"/>
                                  <p:tgtEl>
                                    <p:spTgt spid="3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52" dur="1" fill="hold"/>
                                  <p:tgtEl>
                                    <p:spTgt spid="30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  <p:animClr clrSpc="rgb">
                                <p:cBhvr>
                                  <p:cTn id="53" dur="1" fill="hold"/>
                                  <p:tgtEl>
                                    <p:spTgt spid="30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81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33"/>
                </a:solidFill>
                <a:latin typeface="宋体"/>
              </a:rPr>
              <a:t>成功案例</a:t>
            </a:r>
            <a:r>
              <a:rPr b="0" lang="en-US" sz="2400" spc="-1" strike="noStrike">
                <a:solidFill>
                  <a:srgbClr val="330033"/>
                </a:solidFill>
                <a:latin typeface="宋体"/>
              </a:rPr>
              <a:t>--</a:t>
            </a:r>
            <a:r>
              <a:rPr b="0" lang="zh-CN" sz="2000" spc="-1" strike="noStrike">
                <a:solidFill>
                  <a:srgbClr val="330033"/>
                </a:solidFill>
                <a:latin typeface="Times New Roman"/>
              </a:rPr>
              <a:t>王志东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716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王志东，点击科技总经理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生，广东省东莞市人。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，   毕业于北京大学无线电电子学系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特邀进入北京大学计算机技术研究所，研制“中文多窗口图形支撑环境”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转入北大方正负责产品二次开发与新产品研制工作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独立研制并推出国内第一个实用化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中文环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-DWin3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创办新天地电子信息技术研究所，任副总经理兼总工程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月，创办四通利方信息技术有限公司，任总经理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，被评为北京市第三届“科技之光”优秀企业家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年，王志东离开新浪创立点击科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2560" y="2511360"/>
            <a:ext cx="255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24800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81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33"/>
                </a:solidFill>
                <a:latin typeface="宋体"/>
              </a:rPr>
              <a:t>成功案例</a:t>
            </a:r>
            <a:r>
              <a:rPr b="0" lang="en-US" sz="2400" spc="-1" strike="noStrike">
                <a:solidFill>
                  <a:srgbClr val="330033"/>
                </a:solidFill>
                <a:latin typeface="宋体"/>
              </a:rPr>
              <a:t>--</a:t>
            </a:r>
            <a:r>
              <a:rPr b="0" lang="zh-CN" sz="2400" spc="-1" strike="noStrike">
                <a:solidFill>
                  <a:srgbClr val="330033"/>
                </a:solidFill>
                <a:latin typeface="Times New Roman"/>
              </a:rPr>
              <a:t>李东生</a:t>
            </a:r>
            <a:r>
              <a:rPr b="0" lang="zh-CN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60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5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8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毕业于华南工学院无线电系。历任惠州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TK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家庭电器有限公司技术员、业务员、业务经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讯设备公司总经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8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任广东惠州市工业发展总公司引进部主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任惠州市电子通讯总公司副总经理、党委副书记兼团委书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9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初，李东生担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电子集团公司总经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99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底，李东生出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团公司董事长兼总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T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团总裁兼董事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2560" y="2511360"/>
            <a:ext cx="255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360072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81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0033"/>
                </a:solidFill>
                <a:latin typeface="宋体"/>
              </a:rPr>
              <a:t>成功案例</a:t>
            </a:r>
            <a:r>
              <a:rPr b="0" lang="en-US" sz="2000" spc="-1" strike="noStrike">
                <a:solidFill>
                  <a:srgbClr val="330033"/>
                </a:solidFill>
                <a:latin typeface="宋体"/>
              </a:rPr>
              <a:t>--</a:t>
            </a:r>
            <a:r>
              <a:rPr b="0" lang="zh-CN" sz="2000" spc="-1" strike="noStrike">
                <a:solidFill>
                  <a:srgbClr val="330033"/>
                </a:solidFill>
                <a:latin typeface="Times New Roman"/>
              </a:rPr>
              <a:t>杰克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330033"/>
                </a:solidFill>
                <a:latin typeface="Times New Roman"/>
              </a:rPr>
              <a:t>韦尔奇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60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日生于马萨诸塞州萨兰姆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获得马萨诸塞州大学化学工程学士学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获得伊利诺斯大学化学工程博士学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加入通用电气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塑胶事业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底，韦尔奇成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化学与冶金事业部总经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月成为通用公司副董事长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月，年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岁的韦尔奇成为通用电气公司历史上最年 轻的董事长和首席执行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2560" y="2511360"/>
            <a:ext cx="255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527280" cy="377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81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0033"/>
                </a:solidFill>
                <a:latin typeface="宋体"/>
              </a:rPr>
              <a:t>优秀的</a:t>
            </a:r>
            <a:r>
              <a:rPr b="0" lang="en-US" sz="1800" spc="-1" strike="noStrike">
                <a:solidFill>
                  <a:srgbClr val="330033"/>
                </a:solidFill>
                <a:latin typeface="宋体"/>
              </a:rPr>
              <a:t>Manager</a:t>
            </a:r>
            <a:r>
              <a:rPr b="0" lang="zh-CN" sz="1800" spc="-1" strike="noStrike">
                <a:solidFill>
                  <a:srgbClr val="330033"/>
                </a:solidFill>
                <a:latin typeface="宋体"/>
              </a:rPr>
              <a:t>需要具备的那些素养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8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智：即智慧，遇事时能做出正确无误的判断和及时合理的决定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信：即领导者必须依赖自己的下级，并能够获得下级的信任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仁：即领导必须体贴、爱护下属，时刻把部下的事情记挂在心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勇：即领导必须有勇气、有魄力，处世果断，雷厉风行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领导必须遵守法纪，赏罚分明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知识，知人善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2560" y="2511360"/>
            <a:ext cx="255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79280" y="260280"/>
            <a:ext cx="1750680" cy="1656000"/>
            <a:chOff x="179280" y="260280"/>
            <a:chExt cx="1750680" cy="1656000"/>
          </a:xfrm>
        </p:grpSpPr>
        <p:sp>
          <p:nvSpPr>
            <p:cNvPr id="326" name="Gear"/>
            <p:cNvSpPr/>
            <p:nvPr/>
          </p:nvSpPr>
          <p:spPr>
            <a:xfrm>
              <a:off x="1149840" y="260280"/>
              <a:ext cx="780120" cy="759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9280" y="573120"/>
              <a:ext cx="932760" cy="9075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4440" y="907920"/>
              <a:ext cx="1036800" cy="1008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heel spokes="2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68000" y="1916280"/>
            <a:ext cx="403884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宋体"/>
              </a:rPr>
              <a:t>谢谢各位</a:t>
            </a:r>
            <a:r>
              <a:rPr b="0" lang="zh-CN" sz="6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3384720" cy="1471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</cp:lastModifiedBy>
  <dcterms:modified xsi:type="dcterms:W3CDTF">2007-01-13T08:52:06Z</dcterms:modified>
  <cp:revision>56</cp:revision>
  <dc:subject/>
  <dc:title>PowerPoint Presentation</dc:title>
</cp:coreProperties>
</file>