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gif" ContentType="image/gif"/>
  <Override PartName="/ppt/media/image6.jpeg" ContentType="image/jpeg"/>
  <Override PartName="/ppt/media/image5.wmf" ContentType="image/x-wmf"/>
  <Override PartName="/ppt/media/image7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071-EB4F-41C8-8694-F4AC5E04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140B-36FC-454D-9B7A-F0354FFD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09A-815F-45D0-8B71-582C6E43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785C-E14C-4C33-B222-30645761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3598-0109-4587-BF08-D33F9059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832E-7E34-4162-B59D-502AE1A7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C5BF-8799-4C83-98FD-BAFC8DA0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5D05-D32A-47D4-B581-BBBA9CBA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A966-C0E4-4F9C-BC76-BA86F8EB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8991-403A-430B-9E8D-262FF100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9EF9-A93D-422B-BB9B-1D930B8A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04B7-3CD9-4CCE-BC44-DC0A15B4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DB18-7D41-4A90-8CF3-A34E410B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96CB-67DB-4E6C-A992-C710B955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B7FA-CB7E-499E-B363-0E365190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E8DA-323C-4490-AFC4-6E1F09BE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3A6F-1754-4F95-9C8F-11352D62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8E4D7-451A-4D8B-8103-EC1F56E5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C47F8-BECF-43E9-BFB8-AD908F7C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8758D-340E-434F-ADA4-F5DB61E8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675DB-4B79-475C-BD13-1813E4AF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273C1-3EB2-41C9-8E2F-A93B62F0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E73B-9AB5-42CF-9595-5EA512F3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79417-D76D-4280-BC89-F288C6C8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BCD1C-9811-44AE-8029-986CEEA3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980F9-EFC0-4264-8BF6-28F0AC85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33F4E-4927-4AA6-B258-A4771F4A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43387-9DB5-4A7C-AF07-BC77FFA8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E46CC-20B1-475D-986D-B1118166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AC271-145F-42CE-A849-79CCF90A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C1E9F-E81D-4E90-AE4D-BA6AD004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53A78-0F8E-430A-AAC3-D40D2C37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36AC4-BB56-4236-A5AF-D76541AB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AACC-D409-4863-A802-19442114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7367D-67B7-49EC-82FD-A56BBF7A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88E2E-42E4-4A5B-A911-CACED04D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D5F43-4821-4275-B905-22328B7A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577BE-B43C-461A-BE93-A3C9C1C7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6F844-06F1-42FD-AB12-1C8120A3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0B03C-6304-4CE5-ABEA-7D88D38D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CC5C3-EC33-4F31-8200-85C3B7BE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4979B-0734-4671-9048-2AE9AF20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3460B-10D8-4126-B5BF-CA40E246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17B7A-66DB-47A4-85BA-7A3E3144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2101-90F3-47CA-A116-64C5434A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1F560-529C-4CB3-9F18-A50876B1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6C226-5607-4C45-B40A-7EEFB044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1FCC7-69F2-483E-9086-47B80389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8E2E2-CF8D-478B-B73B-30481AEA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C32E8-8DE5-4A7D-AAD4-9BCBEAA8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43087-90DE-4783-9060-390D8A6F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BCAD6-B89C-4B0D-9C06-A649C172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D5E75-62AA-4253-BCDB-BBD9D05C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F2993-E09B-4B09-83EB-C36A49A7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D0126-BEE7-48AC-BF0D-CF8849D2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D2B6-F2AA-4E64-84D6-B777F7AE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B6491-BD03-4053-8F1A-FD473BD7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EEA543-644B-4B49-AC88-C799983E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3415A8-8A58-47A9-95B3-C82AD47D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6755C1-753B-4E41-9774-8058ACB8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1A3704-8EA4-47BE-AB8D-A09352A3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3EDA75-1514-4EAA-8503-DC9B5ADE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72447F-012C-4838-844C-0001C00A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E82900-674D-45ED-86D4-F0511EB2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9DFC1D-FEE5-48AB-ABE3-F2212136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C32B69-1297-4095-B1A7-D46EB6BE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4F08-DBE0-4A75-93C2-E9448098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BCAD66-A518-493B-A37F-7B97CFE4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EA0F08-B269-4B3D-9F46-77F0E3E2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DB3209-81FC-4D43-839A-997BF99C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C2EB-4F45-4149-A779-4AC7443C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DF45-A76E-4B47-8D60-4C8180D3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9B96-2682-4D7E-AA8D-A71F0B70884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081A-4C6C-4704-A554-E23470670D3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BB6F-9E4A-41D0-A927-D4567F99E1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8E32-8855-48EC-8A9F-416BF69D2D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8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8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107A-02A7-4787-8EA3-A1C5BC6D911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4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F115-E9A2-47C7-B6B8-801D0FB0BC2B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人在职场论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7215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何从一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gine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长为一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132000" y="3500280"/>
            <a:ext cx="2314800" cy="17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0033"/>
                </a:solidFill>
                <a:latin typeface="Times New Roman"/>
                <a:ea typeface="华文彩云"/>
              </a:rPr>
              <a:t>活动流程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组织者介绍活动主持人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HR(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自我介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每人半分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网友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职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职业规划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(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H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素兰玉水做主题演讲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. (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Engineer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职业发展选择。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(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从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Enginee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成长为一名优秀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Manage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成功案例。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讨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优秀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Manage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需要具备的那些素养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. (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讨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放映电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1295640" cy="914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3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0033"/>
                                </p:to>
                              </p:animClr>
                              <p:animClr clrSpc="rgb">
                                <p:cBhvr>
                                  <p:cTn id="47" dur="1" fill="hold"/>
                                  <p:tgtEl>
                                    <p:spTgt spid="3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0033"/>
                                </p:to>
                              </p:animClr>
                              <p:animClr clrSpc="rgb">
                                <p:cBhvr>
                                  <p:cTn id="48" dur="1" fill="hold"/>
                                  <p:tgtEl>
                                    <p:spTgt spid="3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0033"/>
                                </p:to>
                              </p:animClr>
                              <p:animClr clrSpc="rgb">
                                <p:cBhvr>
                                  <p:cTn id="49" dur="1" fill="hold"/>
                                  <p:tgtEl>
                                    <p:spTgt spid="3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0033"/>
                                </p:to>
                              </p:animClr>
                              <p:animClr clrSpc="rgb">
                                <p:cBhvr>
                                  <p:cTn id="50" dur="1" fill="hold"/>
                                  <p:tgtEl>
                                    <p:spTgt spid="3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0033"/>
                                </p:to>
                              </p:animClr>
                              <p:animClr clrSpc="rgb">
                                <p:cBhvr>
                                  <p:cTn id="51" dur="1" fill="hold"/>
                                  <p:tgtEl>
                                    <p:spTgt spid="30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0033"/>
                                </p:to>
                              </p:animClr>
                              <p:animClr clrSpc="rgb">
                                <p:cBhvr>
                                  <p:cTn id="52" dur="1" fill="hold"/>
                                  <p:tgtEl>
                                    <p:spTgt spid="30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0033"/>
                                </p:to>
                              </p:animClr>
                              <p:animClr clrSpc="rgb">
                                <p:cBhvr>
                                  <p:cTn id="53" dur="1" fill="hold"/>
                                  <p:tgtEl>
                                    <p:spTgt spid="30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81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0033"/>
                </a:solidFill>
                <a:latin typeface="宋体"/>
              </a:rPr>
              <a:t>成功案例</a:t>
            </a:r>
            <a:r>
              <a:rPr b="0" lang="en-US" sz="2400" spc="-1" strike="noStrike">
                <a:solidFill>
                  <a:srgbClr val="330033"/>
                </a:solidFill>
                <a:latin typeface="宋体"/>
              </a:rPr>
              <a:t>--</a:t>
            </a:r>
            <a:r>
              <a:rPr b="0" lang="zh-CN" sz="2000" spc="-1" strike="noStrike">
                <a:solidFill>
                  <a:srgbClr val="330033"/>
                </a:solidFill>
                <a:latin typeface="Times New Roman"/>
              </a:rPr>
              <a:t>王志东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427280" y="1599840"/>
            <a:ext cx="4716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王志东，点击科技总经理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67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年生，广东省东莞市人。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年，   毕业于北京大学无线电电子学系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月，特邀进入北京大学计算机技术研究所，研制“中文多窗口图形支撑环境”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月，转入北大方正负责产品二次开发与新产品研制工作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月，独立研制并推出国内第一个实用化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中文环境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-DWin3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月，创办新天地电子信息技术研究所，任副总经理兼总工程师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月，创办四通利方信息技术有限公司，任总经理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年，被评为北京市第三届“科技之光”优秀企业家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年，王志东离开新浪创立点击科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2560" y="2511360"/>
            <a:ext cx="255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7020000" y="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4248000" cy="3335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81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0033"/>
                </a:solidFill>
                <a:latin typeface="宋体"/>
              </a:rPr>
              <a:t>成功案例</a:t>
            </a:r>
            <a:r>
              <a:rPr b="0" lang="en-US" sz="2400" spc="-1" strike="noStrike">
                <a:solidFill>
                  <a:srgbClr val="330033"/>
                </a:solidFill>
                <a:latin typeface="宋体"/>
              </a:rPr>
              <a:t>--</a:t>
            </a:r>
            <a:r>
              <a:rPr b="0" lang="zh-CN" sz="2400" spc="-1" strike="noStrike">
                <a:solidFill>
                  <a:srgbClr val="330033"/>
                </a:solidFill>
                <a:latin typeface="Times New Roman"/>
              </a:rPr>
              <a:t>李东生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211280" y="1599840"/>
            <a:ext cx="460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95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月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98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毕业于华南工学院无线电系。历任惠州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TTK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家庭电器有限公司技术员、业务员、业务经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98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TC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通讯设备公司总经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98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任广东惠州市工业发展总公司引进部主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99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任惠州市电子通讯总公司副总经理、党委副书记兼团委书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99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初，李东生担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TC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电子集团公司总经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99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底，李东生出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TC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集团公司董事长兼总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TC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集团总裁兼董事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2560" y="2511360"/>
            <a:ext cx="255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020000" y="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3600720" cy="3030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81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0033"/>
                </a:solidFill>
                <a:latin typeface="宋体"/>
              </a:rPr>
              <a:t>成功案例</a:t>
            </a:r>
            <a:r>
              <a:rPr b="0" lang="en-US" sz="2000" spc="-1" strike="noStrike">
                <a:solidFill>
                  <a:srgbClr val="330033"/>
                </a:solidFill>
                <a:latin typeface="宋体"/>
              </a:rPr>
              <a:t>--</a:t>
            </a:r>
            <a:r>
              <a:rPr b="0" lang="zh-CN" sz="2000" spc="-1" strike="noStrike">
                <a:solidFill>
                  <a:srgbClr val="330033"/>
                </a:solidFill>
                <a:latin typeface="Times New Roman"/>
              </a:rPr>
              <a:t>杰克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·</a:t>
            </a:r>
            <a:r>
              <a:rPr b="0" lang="zh-CN" sz="2000" spc="-1" strike="noStrike">
                <a:solidFill>
                  <a:srgbClr val="330033"/>
                </a:solidFill>
                <a:latin typeface="Times New Roman"/>
              </a:rPr>
              <a:t>韦尔奇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211280" y="1599840"/>
            <a:ext cx="460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3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日生于马萨诸塞州萨兰姆市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年获得马萨诸塞州大学化学工程学士学位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年获得伊利诺斯大学化学工程博士学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年加入通用电气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）塑胶事业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7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年底，韦尔奇成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化学与冶金事业部总经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7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月成为通用公司副董事长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月，年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岁的韦尔奇成为通用电气公司历史上最年 轻的董事长和首席执行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2560" y="2511360"/>
            <a:ext cx="255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020000" y="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527280" cy="3770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81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0033"/>
                </a:solidFill>
                <a:latin typeface="宋体"/>
              </a:rPr>
              <a:t>优秀的</a:t>
            </a:r>
            <a:r>
              <a:rPr b="0" lang="en-US" sz="1800" spc="-1" strike="noStrike">
                <a:solidFill>
                  <a:srgbClr val="330033"/>
                </a:solidFill>
                <a:latin typeface="宋体"/>
              </a:rPr>
              <a:t>Manager</a:t>
            </a:r>
            <a:r>
              <a:rPr b="0" lang="zh-CN" sz="1800" spc="-1" strike="noStrike">
                <a:solidFill>
                  <a:srgbClr val="330033"/>
                </a:solidFill>
                <a:latin typeface="宋体"/>
              </a:rPr>
              <a:t>需要具备的那些素养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18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智：即智慧，遇事时能做出正确无误的判断和及时合理的决定；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 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信：即领导者必须依赖自己的下级，并能够获得下级的信任；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 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仁：即领导必须体贴、爱护下属，时刻把部下的事情记挂在心；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 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勇：即领导必须有勇气、有魄力，处世果断，雷厉风行；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 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严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即领导必须遵守法纪，赏罚分明；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 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知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即知识，知人善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2560" y="2511360"/>
            <a:ext cx="255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79280" y="260280"/>
            <a:ext cx="1750680" cy="1656000"/>
            <a:chOff x="179280" y="260280"/>
            <a:chExt cx="1750680" cy="1656000"/>
          </a:xfrm>
        </p:grpSpPr>
        <p:sp>
          <p:nvSpPr>
            <p:cNvPr id="326" name="Gear"/>
            <p:cNvSpPr/>
            <p:nvPr/>
          </p:nvSpPr>
          <p:spPr>
            <a:xfrm>
              <a:off x="1149840" y="260280"/>
              <a:ext cx="780120" cy="759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9280" y="573120"/>
              <a:ext cx="932760" cy="9075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84440" y="907920"/>
              <a:ext cx="1036800" cy="1008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heel spokes="2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68000" y="1916280"/>
            <a:ext cx="403884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宋体"/>
              </a:rPr>
              <a:t>谢谢各位</a:t>
            </a:r>
            <a:r>
              <a:rPr b="0" lang="zh-CN" sz="6600" spc="-1" strike="noStrike">
                <a:solidFill>
                  <a:srgbClr val="ffffff"/>
                </a:solidFill>
                <a:latin typeface="宋体"/>
              </a:rPr>
              <a:t>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627280" y="3645000"/>
            <a:ext cx="3384720" cy="1471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</cp:lastModifiedBy>
  <dcterms:modified xsi:type="dcterms:W3CDTF">2007-01-13T08:52:06Z</dcterms:modified>
  <cp:revision>56</cp:revision>
  <dc:subject/>
  <dc:title>PowerPoint Presentation</dc:title>
</cp:coreProperties>
</file>